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8.png" ContentType="image/png"/>
  <Override PartName="/ppt/media/image13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20.png" ContentType="image/png"/>
  <Override PartName="/ppt/media/image11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2011-64C6-49D3-B55D-697EABE4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9BDC-F412-4958-BEB0-EE1BF7CA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7D5A4-242C-4F2B-8C3C-B8E4992A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BB006-CA88-4484-B643-084AB5BF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3EAB6-3DFE-4C2D-AC49-42741D17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88FAA-85FC-484F-8902-B87696FA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9BD81-113F-4669-9353-5EA68DB7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D92C3-E408-45D2-9375-1D4DF204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CA1B5-121F-4629-B6CC-F0EA48C6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BDF89-F21B-463B-8CCE-54C1A82B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C5558-0C9E-4D72-BC47-AEE35E4D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CD5B7-74DF-4E0C-B81E-52DF66E1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2ED-3F06-4864-8269-2B908E32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00DC9-1F63-4744-B585-CB792A50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9200B-DADA-4679-844E-A723C30C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06B2A-3234-4660-992D-FB72A067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9C1D9-71BC-463F-A354-F42CC5D7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AEC01-FC40-451D-A96E-71173804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F1ABF-CC3D-4807-AB62-327730BA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E9389-0332-4F7C-BE00-07BE3F41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EC190-7E4C-4D12-8380-BFF928E3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A0179-0857-4EE4-B910-8084E273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366BD-DD08-4961-A7EC-2BE0C39C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665-62D9-4E52-9DC6-69006CEC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444FF-EA39-4B6F-BF64-2748222C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91C98-938A-46E9-B881-8EAADBD8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6EAD4-A088-483A-825B-80A17C18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920F7-3E25-49D5-BD00-848FE1C0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6C424-28A3-4505-B040-A5A11984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E1B4B-091D-4FA1-A000-DB911D3A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1D55B-B7E1-4BB2-9385-72574BC6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36075-5412-4DBD-ACEA-DE3BC0BC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5E792-5B31-4DC5-A327-759F4362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1FA43-D36C-43D9-A710-E3903549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D4342-31CE-4479-BC32-5F077377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B9AA4-80BC-4A1E-BE9F-92BBE99C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BBFB5-03E9-45A1-9654-3A63DC16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6200C-00DE-469B-82D1-17074CAA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D5070-6A95-496A-8C6F-D32D094C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F7B52-BD7A-4126-BB6D-623FB5EE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E7C25-98A7-47AD-BA94-1CD3951A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F4273-28EB-4E13-96D4-B73991C4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A419F-7F46-49D2-AEB0-985A5FC8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E8948-4F27-4450-9624-3AC2D220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95763-60AC-4D76-ABC3-6C60A297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41466-0A05-4267-953E-D2EEA8B4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940C2-8801-40E3-ACD1-D9B693E7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E8525-0C46-4993-9A91-76F7F315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8F876-5C00-401E-AB6F-9B65D4C0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664-96E7-4AE3-8389-FB1D19B9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21F0-0706-446B-8C0E-0A7A206C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ABD9-6713-487C-93C4-F7CE34F8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5062-420F-4D2C-B876-3368A0D4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E87A-10F8-41E3-84E1-EEC09CAE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F9B8-E439-4C41-B0C2-5F47F847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8FB5-3706-4A93-8B80-BA25848A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22E7-0ABC-48B0-857C-A77004D4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9BE2-07FA-4566-B68D-81CC218F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3AE2-991F-4779-B4CA-D2015539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3A07-395D-434E-8E84-D60647AA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E22A-7FE8-413C-AD59-9B2F731D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20FB-90F8-484B-98EC-4886DDE5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8887-FD74-41B7-A692-96973A63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9DF70-FDDE-440A-A7A5-39127EAB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1AADC-2EED-4C8C-9801-89726746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D9986-6A58-42B5-8992-3CE8D003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A2F-11D5-471D-B99E-0E2FF6A3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86B63-DAC3-48E9-BEDE-A5157225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1FB5D-191C-4F05-AB1D-2A327397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3BF3A-4561-47C5-8739-2DAAD498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5AA0B-2C78-4D8E-BCD2-14AC806E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AAA2B-87A3-40EF-AA1B-7CB2C729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D9F6E-920C-4091-BB2C-9AB5CC1E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1DE4A-3EC9-46AE-9C54-B0A31517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2D82B-C45D-4D45-8402-9ADFDE3D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5DC1E-5367-461B-BB07-4AC61C33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E9D2D-C969-42C5-A965-0C141884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218F-5BC4-468E-8D9F-3C3CAA78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992B2-A9A4-4F6F-8CF7-4AF3C498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03136-A01B-4568-AAC9-1A6E5923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872B2-A4EE-4190-8929-FCB7EF57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4B265-DEF6-45F4-B3D3-ACC1D488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B6A47-28D3-4649-BAEC-B5F33208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43C4F-DA79-4993-9C7B-6326E88A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24FCB-FA5F-4EE1-9471-5054CDF0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693A6-D71D-401D-A84F-E6E8A908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59089-D6D3-4CB1-9EFF-160D35D8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84B2C-5DDD-4C33-9833-78AABAF5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C2B-6FEA-42A2-9E4C-E635B740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CD67D-6585-46FF-A92A-E17AEE67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A0BAC-A55E-4628-B4EC-2FA2FD5F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EEEE4-7E64-49E1-89DB-F6F25FF0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A6BF5-FBC3-4133-874F-F1AF7C70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4F21F-DDC2-47AF-B8B0-F2DC5172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95CD0-F126-4E1E-B995-4A147677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A20C8-62E0-4F82-BADA-EDC4D49A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8A958-3325-46C4-A5F7-5AE70ACF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5F4CB-0E02-4854-8998-BF70F1C0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6C9BF-C484-47A5-9C02-A1181F72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E0A-B0B1-4988-AB67-B77769AA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344DC-970A-4C66-A450-7D3F6663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0CE40-6D2E-42DA-A055-14598960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387B9-0EA6-4605-B6D1-EB0ED524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5C2EA-2579-4A8A-9831-98B5E3BF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10926-4F0D-4837-912B-43FCD8D3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AA9C7-CACE-492F-AEF2-21410E7D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53C50-DE84-432E-B8A6-E6F8DAC6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8F1B2-4624-4282-8A2D-1650BB38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10BBE-8DCA-41C6-BFE3-5CC71A35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75DE0-519B-40F4-BB5A-3D685D56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DE8C-C1FD-4EE4-8323-DBAFADE2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6991F-B90A-437F-9548-FBFD4720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70ACF-AAC3-4968-9BE7-647D11BA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4711F-F4F1-41CD-9932-5E5BAEC5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C84F2-E70B-4D3D-87E3-BA1860D9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72142-A6E4-482F-ACF1-8EC1F748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ED8A3-8175-478A-B87D-CF6E2ABC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7E436-9D60-49B0-8761-AC5C3EDE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DDF93-494F-4E1A-821D-1FBC46B0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FC418-9A05-45E7-AB41-61F3FC6A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5E70F-7BAE-46DB-8A66-7BDAB313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2FB-F26E-4C72-8363-EFDA41AE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0B4E4-CE0B-401E-9D46-2416EF19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B8549-9583-4C82-AFEC-F84A58BE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D640C-CD5F-4DED-A204-1D604D9A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BAE3A-55E5-40C1-A61F-74014451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EBFBC-B296-403D-BD10-B7B88C4F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1627F-841A-46D1-8FAE-0E0D804D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40EAF-5030-4964-AB19-EF7EDB0A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678E5-111E-4C64-9BCF-26A53141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E99D5-19DE-4D78-B320-25D0FFE0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907FF-6098-4D4C-AAD3-4C06EA6B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ângulo 28" descr=""/>
          <p:cNvPicPr/>
          <p:nvPr/>
        </p:nvPicPr>
        <p:blipFill>
          <a:blip r:embed="rId3"/>
          <a:stretch/>
        </p:blipFill>
        <p:spPr>
          <a:xfrm>
            <a:off x="12600" y="1011240"/>
            <a:ext cx="9118800" cy="5389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D121-D72D-43B4-8030-FBF35A6FC08B}" type="slidenum">
              <a:rPr b="0" lang="pt-P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DBD9-E681-451E-B29A-484D94FA3CCF}" type="slidenum">
              <a:rPr b="0" lang="pt-P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17E6-F891-4983-B26A-D8898E5488A4}" type="slidenum">
              <a:rPr b="0" lang="pt-P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63A1-6BDF-43CD-9878-377EBB7CCD45}" type="slidenum">
              <a:rPr b="0" lang="pt-P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Rectângulo 28" descr=""/>
          <p:cNvPicPr/>
          <p:nvPr/>
        </p:nvPicPr>
        <p:blipFill>
          <a:blip r:embed="rId3"/>
          <a:stretch/>
        </p:blipFill>
        <p:spPr>
          <a:xfrm>
            <a:off x="12600" y="1011240"/>
            <a:ext cx="9118800" cy="5389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ctângulo 28" descr=""/>
          <p:cNvPicPr/>
          <p:nvPr/>
        </p:nvPicPr>
        <p:blipFill>
          <a:blip r:embed="rId3"/>
          <a:stretch/>
        </p:blipFill>
        <p:spPr>
          <a:xfrm>
            <a:off x="12600" y="1011240"/>
            <a:ext cx="9118800" cy="53895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F79A-05DB-4FB4-843C-A724CA0F2020}" type="slidenum">
              <a:rPr b="0" lang="pt-P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4619-6EF4-4E6F-8BE2-249D6319FD62}" type="slidenum">
              <a:rPr b="0" lang="pt-P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8A6F-C183-43BC-9F1A-D5036DF5381F}" type="slidenum">
              <a:rPr b="0" lang="pt-P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DB25-000D-4F60-8CDF-858921922039}" type="slidenum">
              <a:rPr b="0" lang="pt-P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9462-B368-4BE2-8307-EFCF0F78E355}" type="slidenum">
              <a:rPr b="0" lang="pt-P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18E4-CBE9-4429-B374-FADD91B50694}" type="slidenum">
              <a:rPr b="0" lang="pt-P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318F-8958-41D9-A398-20ED264C2A2F}" type="slidenum">
              <a:rPr b="0" lang="pt-P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Imagem 7" descr=""/>
          <p:cNvPicPr/>
          <p:nvPr/>
        </p:nvPicPr>
        <p:blipFill>
          <a:blip r:embed="rId1"/>
          <a:stretch/>
        </p:blipFill>
        <p:spPr>
          <a:xfrm>
            <a:off x="34504200" y="2506680"/>
            <a:ext cx="8548920" cy="473040"/>
          </a:xfrm>
          <a:prstGeom prst="rect">
            <a:avLst/>
          </a:prstGeom>
          <a:ln w="0">
            <a:noFill/>
          </a:ln>
        </p:spPr>
      </p:pic>
      <p:sp>
        <p:nvSpPr>
          <p:cNvPr id="493" name="CustomShape 1"/>
          <p:cNvSpPr/>
          <p:nvPr/>
        </p:nvSpPr>
        <p:spPr>
          <a:xfrm>
            <a:off x="0" y="-38160"/>
            <a:ext cx="9142560" cy="104796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w Cen MT"/>
                <a:ea typeface="DejaVu Sans"/>
              </a:rPr>
              <a:t>                       </a:t>
            </a:r>
            <a:r>
              <a:rPr b="0" lang="sl-SI" sz="1800" spc="-1" strike="noStrike">
                <a:solidFill>
                  <a:srgbClr val="ffffff"/>
                </a:solidFill>
                <a:latin typeface="Tw Cen MT"/>
                <a:ea typeface="DejaVu Sans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Tw Cen MT"/>
                <a:ea typeface="DejaVu Sans"/>
              </a:rPr>
              <a:t>Izziv B2 / Moj projekt: Moj projek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Picture 1" descr=""/>
          <p:cNvPicPr/>
          <p:nvPr/>
        </p:nvPicPr>
        <p:blipFill>
          <a:blip r:embed="rId2"/>
          <a:stretch/>
        </p:blipFill>
        <p:spPr>
          <a:xfrm>
            <a:off x="0" y="12600"/>
            <a:ext cx="2131920" cy="852480"/>
          </a:xfrm>
          <a:prstGeom prst="rect">
            <a:avLst/>
          </a:prstGeom>
          <a:ln w="0">
            <a:noFill/>
          </a:ln>
        </p:spPr>
      </p:pic>
      <p:pic>
        <p:nvPicPr>
          <p:cNvPr id="495" name="CustomShape 2" descr=""/>
          <p:cNvPicPr/>
          <p:nvPr/>
        </p:nvPicPr>
        <p:blipFill>
          <a:blip r:embed="rId3"/>
          <a:stretch/>
        </p:blipFill>
        <p:spPr>
          <a:xfrm>
            <a:off x="55440" y="1158840"/>
            <a:ext cx="8807400" cy="5162760"/>
          </a:xfrm>
          <a:prstGeom prst="rect">
            <a:avLst/>
          </a:prstGeom>
          <a:ln w="0">
            <a:noFill/>
          </a:ln>
        </p:spPr>
      </p:pic>
      <p:sp>
        <p:nvSpPr>
          <p:cNvPr id="496" name="CustomShape 3"/>
          <p:cNvSpPr/>
          <p:nvPr/>
        </p:nvSpPr>
        <p:spPr>
          <a:xfrm>
            <a:off x="460440" y="1835280"/>
            <a:ext cx="73436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ffb300"/>
                </a:solidFill>
                <a:latin typeface="Calibri"/>
                <a:ea typeface="Calibri"/>
              </a:rPr>
              <a:t>Izziv B2: Moj projek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b300"/>
                </a:solidFill>
                <a:latin typeface="Calibri"/>
                <a:ea typeface="Calibri"/>
              </a:rPr>
              <a:t>Znam načrtovati in izvesti svoj projekt skupaj z ekipo. </a:t>
            </a:r>
            <a:r>
              <a:rPr b="0" lang="sl-SI" sz="1800" spc="-1" strike="noStrike">
                <a:solidFill>
                  <a:srgbClr val="ffb3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b300"/>
                </a:solidFill>
                <a:latin typeface="Calibri"/>
                <a:ea typeface="Calibri"/>
              </a:rPr>
              <a:t>Osnovne veščine podje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Picture 14" descr="Bildschirmfoto 2014-05-21 um 14.47.42.png"/>
          <p:cNvPicPr/>
          <p:nvPr/>
        </p:nvPicPr>
        <p:blipFill>
          <a:blip r:embed="rId4"/>
          <a:stretch/>
        </p:blipFill>
        <p:spPr>
          <a:xfrm>
            <a:off x="6953400" y="5629320"/>
            <a:ext cx="850680" cy="5335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Logo_eesi"/>
          <p:cNvPicPr/>
          <p:nvPr/>
        </p:nvPicPr>
        <p:blipFill>
          <a:blip r:embed="rId5"/>
          <a:stretch/>
        </p:blipFill>
        <p:spPr>
          <a:xfrm>
            <a:off x="4838760" y="5610240"/>
            <a:ext cx="952560" cy="5713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3" descr="BMBF_Logo_CMYK.eps"/>
          <p:cNvPicPr/>
          <p:nvPr/>
        </p:nvPicPr>
        <p:blipFill>
          <a:blip r:embed="rId6"/>
          <a:stretch/>
        </p:blipFill>
        <p:spPr>
          <a:xfrm>
            <a:off x="2658960" y="5665680"/>
            <a:ext cx="827280" cy="4622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5" descr="kph-logo-2014-transparent-cmyk-300.eps"/>
          <p:cNvPicPr/>
          <p:nvPr/>
        </p:nvPicPr>
        <p:blipFill>
          <a:blip r:embed="rId7"/>
          <a:stretch/>
        </p:blipFill>
        <p:spPr>
          <a:xfrm>
            <a:off x="3681360" y="5667480"/>
            <a:ext cx="960480" cy="458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" descr=""/>
          <p:cNvPicPr/>
          <p:nvPr/>
        </p:nvPicPr>
        <p:blipFill>
          <a:blip r:embed="rId8"/>
          <a:stretch/>
        </p:blipFill>
        <p:spPr>
          <a:xfrm>
            <a:off x="5986440" y="5607000"/>
            <a:ext cx="770040" cy="577800"/>
          </a:xfrm>
          <a:prstGeom prst="rect">
            <a:avLst/>
          </a:prstGeom>
          <a:ln w="0">
            <a:noFill/>
          </a:ln>
        </p:spPr>
      </p:pic>
      <p:pic>
        <p:nvPicPr>
          <p:cNvPr id="502" name="Bild 17" descr="Macintosh HD:Users:valentinmayerhofer:Dropbox:IFTE:Youth Challenge Program:final Layout:Icons ohne Hintergrund:co-funded.png"/>
          <p:cNvPicPr/>
          <p:nvPr/>
        </p:nvPicPr>
        <p:blipFill>
          <a:blip r:embed="rId9"/>
          <a:stretch/>
        </p:blipFill>
        <p:spPr>
          <a:xfrm>
            <a:off x="1077840" y="5697360"/>
            <a:ext cx="1386000" cy="3985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3" descr=""/>
          <p:cNvPicPr/>
          <p:nvPr/>
        </p:nvPicPr>
        <p:blipFill>
          <a:blip r:embed="rId10"/>
          <a:stretch/>
        </p:blipFill>
        <p:spPr>
          <a:xfrm>
            <a:off x="5494320" y="1819440"/>
            <a:ext cx="2763720" cy="2763720"/>
          </a:xfrm>
          <a:prstGeom prst="rect">
            <a:avLst/>
          </a:prstGeom>
          <a:ln w="0">
            <a:noFill/>
          </a:ln>
        </p:spPr>
      </p:pic>
      <p:sp>
        <p:nvSpPr>
          <p:cNvPr id="504" name="Textfeld 1"/>
          <p:cNvSpPr/>
          <p:nvPr/>
        </p:nvSpPr>
        <p:spPr>
          <a:xfrm>
            <a:off x="5003640" y="4294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b300"/>
                </a:solidFill>
                <a:latin typeface="Calibri"/>
                <a:ea typeface="Calibri"/>
              </a:rPr>
              <a:t>Moj projek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Imagem 7" descr="title_shadow_50.png"/>
          <p:cNvPicPr/>
          <p:nvPr/>
        </p:nvPicPr>
        <p:blipFill>
          <a:blip r:embed="rId1"/>
          <a:stretch/>
        </p:blipFill>
        <p:spPr>
          <a:xfrm>
            <a:off x="311040" y="603360"/>
            <a:ext cx="8547120" cy="476280"/>
          </a:xfrm>
          <a:prstGeom prst="rect">
            <a:avLst/>
          </a:prstGeom>
          <a:ln w="0">
            <a:noFill/>
          </a:ln>
        </p:spPr>
      </p:pic>
      <p:sp>
        <p:nvSpPr>
          <p:cNvPr id="674" name="Rectângulo 9"/>
          <p:cNvSpPr/>
          <p:nvPr/>
        </p:nvSpPr>
        <p:spPr>
          <a:xfrm>
            <a:off x="0" y="-14400"/>
            <a:ext cx="9144000" cy="104940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w Cen MT"/>
                <a:ea typeface="Times New Roman"/>
              </a:rPr>
              <a:t>Korak 6: Datumi – napredovanje projek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Rechteck 5"/>
          <p:cNvSpPr/>
          <p:nvPr/>
        </p:nvSpPr>
        <p:spPr>
          <a:xfrm>
            <a:off x="579600" y="2158920"/>
            <a:ext cx="2355840" cy="224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4e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  <a:ea typeface="ÇlÇr ñæí©"/>
              </a:rPr>
              <a:t>Kdaj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6" name="Gerade Verbindung mit Pfeil 4"/>
          <p:cNvCxnSpPr/>
          <p:nvPr/>
        </p:nvCxnSpPr>
        <p:spPr>
          <a:xfrm flipV="1">
            <a:off x="522000" y="4628520"/>
            <a:ext cx="7971480" cy="3960"/>
          </a:xfrm>
          <a:prstGeom prst="straightConnector1">
            <a:avLst/>
          </a:prstGeom>
          <a:ln w="25560">
            <a:solidFill>
              <a:srgbClr val="4e6128"/>
            </a:solidFill>
            <a:miter/>
            <a:tailEnd len="med" type="triangle" w="med"/>
          </a:ln>
        </p:spPr>
      </p:cxnSp>
      <p:sp>
        <p:nvSpPr>
          <p:cNvPr id="677" name="Text Box 3"/>
          <p:cNvSpPr/>
          <p:nvPr/>
        </p:nvSpPr>
        <p:spPr>
          <a:xfrm>
            <a:off x="4160880" y="4573440"/>
            <a:ext cx="630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ÇlÇr ñæí©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hteck 5"/>
          <p:cNvSpPr/>
          <p:nvPr/>
        </p:nvSpPr>
        <p:spPr>
          <a:xfrm>
            <a:off x="6156360" y="2149560"/>
            <a:ext cx="2355840" cy="22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4e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  <a:ea typeface="ÇlÇr ñæí©"/>
              </a:rPr>
              <a:t>Kateri izdelk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Rechteck 5"/>
          <p:cNvSpPr/>
          <p:nvPr/>
        </p:nvSpPr>
        <p:spPr>
          <a:xfrm>
            <a:off x="3397320" y="2152800"/>
            <a:ext cx="2355840" cy="22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4e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  <a:ea typeface="ÇlÇr ñæí©"/>
              </a:rPr>
              <a:t>Kd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Imagem 7" descr="title_shadow_50.png"/>
          <p:cNvPicPr/>
          <p:nvPr/>
        </p:nvPicPr>
        <p:blipFill>
          <a:blip r:embed="rId1"/>
          <a:stretch/>
        </p:blipFill>
        <p:spPr>
          <a:xfrm>
            <a:off x="311040" y="603360"/>
            <a:ext cx="8547120" cy="476280"/>
          </a:xfrm>
          <a:prstGeom prst="rect">
            <a:avLst/>
          </a:prstGeom>
          <a:ln w="0">
            <a:noFill/>
          </a:ln>
        </p:spPr>
      </p:pic>
      <p:sp>
        <p:nvSpPr>
          <p:cNvPr id="681" name="Rectângulo 9"/>
          <p:cNvSpPr/>
          <p:nvPr/>
        </p:nvSpPr>
        <p:spPr>
          <a:xfrm>
            <a:off x="0" y="-14400"/>
            <a:ext cx="9144000" cy="104940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w Cen MT"/>
                <a:ea typeface="Times New Roman"/>
              </a:rPr>
              <a:t>Korak 6: Datumi – napredovanje projekta (časovna struktur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Gruppierung 1"/>
          <p:cNvGrpSpPr/>
          <p:nvPr/>
        </p:nvGrpSpPr>
        <p:grpSpPr>
          <a:xfrm>
            <a:off x="1164240" y="1477800"/>
            <a:ext cx="6975360" cy="4502160"/>
            <a:chOff x="1164240" y="1477800"/>
            <a:chExt cx="6975360" cy="4502160"/>
          </a:xfrm>
        </p:grpSpPr>
        <p:sp>
          <p:nvSpPr>
            <p:cNvPr id="683" name="Oval 9"/>
            <p:cNvSpPr/>
            <p:nvPr/>
          </p:nvSpPr>
          <p:spPr>
            <a:xfrm>
              <a:off x="3232080" y="2868480"/>
              <a:ext cx="2933640" cy="1700280"/>
            </a:xfrm>
            <a:prstGeom prst="ellipse">
              <a:avLst/>
            </a:prstGeom>
            <a:solidFill>
              <a:srgbClr val="afd173"/>
            </a:solidFill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800" spc="-1" strike="noStrike">
                  <a:solidFill>
                    <a:srgbClr val="000000"/>
                  </a:solidFill>
                  <a:latin typeface="Calibri"/>
                  <a:ea typeface="PoloMatheAustria1Krftg krftg"/>
                </a:rPr>
                <a:t>            </a:t>
              </a:r>
              <a:r>
                <a:rPr b="0" lang="pt-PT" sz="1800" spc="-1" strike="noStrike">
                  <a:solidFill>
                    <a:srgbClr val="000000"/>
                  </a:solidFill>
                  <a:latin typeface="Calibri"/>
                  <a:ea typeface="PoloMatheAustria1Krftg krftg"/>
                </a:rPr>
                <a:t>Projekt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Rechteck 1"/>
            <p:cNvSpPr/>
            <p:nvPr/>
          </p:nvSpPr>
          <p:spPr>
            <a:xfrm>
              <a:off x="2611440" y="1477800"/>
              <a:ext cx="1212840" cy="10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Datum začetka: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Rechteck 1"/>
            <p:cNvSpPr/>
            <p:nvPr/>
          </p:nvSpPr>
          <p:spPr>
            <a:xfrm>
              <a:off x="2611440" y="4898880"/>
              <a:ext cx="1212840" cy="10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Začetni dogodek: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Rechteck 1"/>
            <p:cNvSpPr/>
            <p:nvPr/>
          </p:nvSpPr>
          <p:spPr>
            <a:xfrm>
              <a:off x="5573880" y="1477800"/>
              <a:ext cx="1212840" cy="10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Datum zaključka: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Rechteck 1"/>
            <p:cNvSpPr/>
            <p:nvPr/>
          </p:nvSpPr>
          <p:spPr>
            <a:xfrm>
              <a:off x="5573880" y="4897440"/>
              <a:ext cx="1212840" cy="10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Zaključni dogodek: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8" name="Gerade Verbindung mit Pfeil 15"/>
            <p:cNvCxnSpPr>
              <a:stCxn id="684" idx="2"/>
              <a:endCxn id="685" idx="0"/>
            </p:cNvCxnSpPr>
            <p:nvPr/>
          </p:nvCxnSpPr>
          <p:spPr>
            <a:xfrm>
              <a:off x="3217320" y="2558880"/>
              <a:ext cx="1080" cy="2340360"/>
            </a:xfrm>
            <a:prstGeom prst="straightConnector1">
              <a:avLst/>
            </a:prstGeom>
            <a:ln w="12600">
              <a:solidFill>
                <a:srgbClr val="84aa39"/>
              </a:solidFill>
              <a:miter/>
              <a:tailEnd len="med" type="triangle" w="med"/>
            </a:ln>
          </p:spPr>
        </p:cxnSp>
        <p:cxnSp>
          <p:nvCxnSpPr>
            <p:cNvPr id="689" name="Gerade Verbindung mit Pfeil 16"/>
            <p:cNvCxnSpPr>
              <a:stCxn id="686" idx="2"/>
              <a:endCxn id="687" idx="0"/>
            </p:cNvCxnSpPr>
            <p:nvPr/>
          </p:nvCxnSpPr>
          <p:spPr>
            <a:xfrm>
              <a:off x="6179760" y="2558880"/>
              <a:ext cx="1080" cy="2339280"/>
            </a:xfrm>
            <a:prstGeom prst="straightConnector1">
              <a:avLst/>
            </a:prstGeom>
            <a:ln w="12600">
              <a:solidFill>
                <a:srgbClr val="84aa39"/>
              </a:solidFill>
              <a:miter/>
              <a:tailEnd len="med" type="triangle" w="med"/>
            </a:ln>
          </p:spPr>
        </p:cxnSp>
        <p:sp>
          <p:nvSpPr>
            <p:cNvPr id="690" name="Freihandform 17"/>
            <p:cNvSpPr/>
            <p:nvPr/>
          </p:nvSpPr>
          <p:spPr>
            <a:xfrm>
              <a:off x="1312920" y="2673000"/>
              <a:ext cx="1893960" cy="2071800"/>
            </a:xfrm>
            <a:custGeom>
              <a:avLst/>
              <a:gdLst/>
              <a:ahLst/>
              <a:rect l="l" t="t" r="r" b="b"/>
              <a:pathLst>
                <a:path w="1379358" h="1300426">
                  <a:moveTo>
                    <a:pt x="0" y="0"/>
                  </a:moveTo>
                  <a:cubicBezTo>
                    <a:pt x="688155" y="219776"/>
                    <a:pt x="1376310" y="439552"/>
                    <a:pt x="1379348" y="656290"/>
                  </a:cubicBezTo>
                  <a:cubicBezTo>
                    <a:pt x="1382386" y="873028"/>
                    <a:pt x="700307" y="1086727"/>
                    <a:pt x="18229" y="1300426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84aa39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ihandform 18"/>
            <p:cNvSpPr/>
            <p:nvPr/>
          </p:nvSpPr>
          <p:spPr>
            <a:xfrm flipH="1">
              <a:off x="6187320" y="2673000"/>
              <a:ext cx="1893960" cy="2071800"/>
            </a:xfrm>
            <a:custGeom>
              <a:avLst/>
              <a:gdLst/>
              <a:ahLst/>
              <a:rect l="l" t="t" r="r" b="b"/>
              <a:pathLst>
                <a:path w="1379358" h="1300426">
                  <a:moveTo>
                    <a:pt x="0" y="0"/>
                  </a:moveTo>
                  <a:cubicBezTo>
                    <a:pt x="688155" y="219776"/>
                    <a:pt x="1376310" y="439552"/>
                    <a:pt x="1379348" y="656290"/>
                  </a:cubicBezTo>
                  <a:cubicBezTo>
                    <a:pt x="1382386" y="873028"/>
                    <a:pt x="700307" y="1086727"/>
                    <a:pt x="18229" y="1300426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84aa39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Textfeld 19"/>
            <p:cNvSpPr/>
            <p:nvPr/>
          </p:nvSpPr>
          <p:spPr>
            <a:xfrm>
              <a:off x="1164240" y="3535200"/>
              <a:ext cx="188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Faza pred projekt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Textfeld 20"/>
            <p:cNvSpPr/>
            <p:nvPr/>
          </p:nvSpPr>
          <p:spPr>
            <a:xfrm>
              <a:off x="6585840" y="3535200"/>
              <a:ext cx="15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Faza po projektu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Imagem 7" descr="title_shadow_50.png"/>
          <p:cNvPicPr/>
          <p:nvPr/>
        </p:nvPicPr>
        <p:blipFill>
          <a:blip r:embed="rId1"/>
          <a:stretch/>
        </p:blipFill>
        <p:spPr>
          <a:xfrm>
            <a:off x="311040" y="603360"/>
            <a:ext cx="8547120" cy="476280"/>
          </a:xfrm>
          <a:prstGeom prst="rect">
            <a:avLst/>
          </a:prstGeom>
          <a:ln w="0">
            <a:noFill/>
          </a:ln>
        </p:spPr>
      </p:pic>
      <p:sp>
        <p:nvSpPr>
          <p:cNvPr id="695" name="Rectângulo 9"/>
          <p:cNvSpPr/>
          <p:nvPr/>
        </p:nvSpPr>
        <p:spPr>
          <a:xfrm>
            <a:off x="0" y="-14400"/>
            <a:ext cx="9144000" cy="104940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w Cen MT"/>
                <a:ea typeface="Times New Roman"/>
              </a:rPr>
              <a:t>Korak 7: Načrt virov in stroškovni prorač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420840" y="1405080"/>
          <a:ext cx="8340480" cy="4870440"/>
        </p:xfrm>
        <a:graphic>
          <a:graphicData uri="http://schemas.openxmlformats.org/drawingml/2006/table">
            <a:tbl>
              <a:tblPr/>
              <a:tblGrid>
                <a:gridCol w="506160"/>
                <a:gridCol w="1876680"/>
                <a:gridCol w="2293920"/>
                <a:gridCol w="849240"/>
                <a:gridCol w="981000"/>
                <a:gridCol w="777960"/>
                <a:gridCol w="1055520"/>
              </a:tblGrid>
              <a:tr h="368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črt virov/stroškovni proračun projekta: »......... 20..«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za/delovni skl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htevana finančna sreds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oški v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. 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rebna finančna sreds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o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lič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a na en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ni stroš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janski skupni odhod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janski skupni odhodki za š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ličic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tor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n 1 od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Imagem 7" descr="title_shadow_50.png"/>
          <p:cNvPicPr/>
          <p:nvPr/>
        </p:nvPicPr>
        <p:blipFill>
          <a:blip r:embed="rId1"/>
          <a:stretch/>
        </p:blipFill>
        <p:spPr>
          <a:xfrm>
            <a:off x="311040" y="603360"/>
            <a:ext cx="8547120" cy="476280"/>
          </a:xfrm>
          <a:prstGeom prst="rect">
            <a:avLst/>
          </a:prstGeom>
          <a:ln w="0">
            <a:noFill/>
          </a:ln>
        </p:spPr>
      </p:pic>
      <p:sp>
        <p:nvSpPr>
          <p:cNvPr id="698" name="Rectângulo 9"/>
          <p:cNvSpPr/>
          <p:nvPr/>
        </p:nvSpPr>
        <p:spPr>
          <a:xfrm>
            <a:off x="0" y="-14400"/>
            <a:ext cx="9144000" cy="104940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w Cen MT"/>
                <a:ea typeface="Times New Roman"/>
              </a:rPr>
              <a:t>Korak 8: Zagon projek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Bild 1" descr="play-1073616.png"/>
          <p:cNvPicPr/>
          <p:nvPr/>
        </p:nvPicPr>
        <p:blipFill>
          <a:blip r:embed="rId2"/>
          <a:stretch/>
        </p:blipFill>
        <p:spPr>
          <a:xfrm>
            <a:off x="3260880" y="2205000"/>
            <a:ext cx="3054240" cy="3054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Imagem 7" descr="title_shadow_50.png"/>
          <p:cNvPicPr/>
          <p:nvPr/>
        </p:nvPicPr>
        <p:blipFill>
          <a:blip r:embed="rId1"/>
          <a:stretch/>
        </p:blipFill>
        <p:spPr>
          <a:xfrm>
            <a:off x="311040" y="603360"/>
            <a:ext cx="8547120" cy="476280"/>
          </a:xfrm>
          <a:prstGeom prst="rect">
            <a:avLst/>
          </a:prstGeom>
          <a:ln w="0">
            <a:noFill/>
          </a:ln>
        </p:spPr>
      </p:pic>
      <p:sp>
        <p:nvSpPr>
          <p:cNvPr id="701" name="Rectângulo 9"/>
          <p:cNvSpPr/>
          <p:nvPr/>
        </p:nvSpPr>
        <p:spPr>
          <a:xfrm>
            <a:off x="0" y="-14400"/>
            <a:ext cx="9144000" cy="104940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w Cen MT"/>
                <a:ea typeface="Times New Roman"/>
              </a:rPr>
              <a:t>Korak 9: Opredelitev projekta in projektni priročn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382680" y="1260360"/>
          <a:ext cx="8353440" cy="4975200"/>
        </p:xfrm>
        <a:graphic>
          <a:graphicData uri="http://schemas.openxmlformats.org/drawingml/2006/table">
            <a:tbl>
              <a:tblPr/>
              <a:tblGrid>
                <a:gridCol w="1722240"/>
                <a:gridCol w="2897280"/>
                <a:gridCol w="549360"/>
                <a:gridCol w="3184560"/>
              </a:tblGrid>
              <a:tr h="46224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redelitev projek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e projekt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ajalec projekta in projektni partne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enje projekt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ni dogode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ljučni dogode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četk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ključk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188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za pred projekto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za p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22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lji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cilji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ze projekta/glavne nalog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jno potrebna sredstva/stroški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188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ezava s strategijami, projekti in drugimi aktivnostmi (ki jih nudi šola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lani projektne ekip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ktno osebj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ajalec projekt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ff3ea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ja projekt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Imagem 7" descr="title_shadow_50.png"/>
          <p:cNvPicPr/>
          <p:nvPr/>
        </p:nvPicPr>
        <p:blipFill>
          <a:blip r:embed="rId1"/>
          <a:stretch/>
        </p:blipFill>
        <p:spPr>
          <a:xfrm>
            <a:off x="311040" y="603360"/>
            <a:ext cx="8547120" cy="476280"/>
          </a:xfrm>
          <a:prstGeom prst="rect">
            <a:avLst/>
          </a:prstGeom>
          <a:ln w="0">
            <a:noFill/>
          </a:ln>
        </p:spPr>
      </p:pic>
      <p:sp>
        <p:nvSpPr>
          <p:cNvPr id="704" name="Rectângulo 9"/>
          <p:cNvSpPr/>
          <p:nvPr/>
        </p:nvSpPr>
        <p:spPr>
          <a:xfrm>
            <a:off x="0" y="-14400"/>
            <a:ext cx="9144000" cy="104940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w Cen MT"/>
                <a:ea typeface="Times New Roman"/>
              </a:rPr>
              <a:t>Korak 10: Izvedba in spremljanje projek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Gleichschenkliges Dreieck 4"/>
          <p:cNvSpPr/>
          <p:nvPr/>
        </p:nvSpPr>
        <p:spPr>
          <a:xfrm>
            <a:off x="2911320" y="2055960"/>
            <a:ext cx="2909880" cy="3487680"/>
          </a:xfrm>
          <a:prstGeom prst="triangle">
            <a:avLst>
              <a:gd name="adj" fmla="val 50000"/>
            </a:avLst>
          </a:prstGeom>
          <a:solidFill>
            <a:srgbClr val="afd173"/>
          </a:solidFill>
          <a:ln w="12600">
            <a:solidFill>
              <a:srgbClr val="84aa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feld 5"/>
          <p:cNvSpPr/>
          <p:nvPr/>
        </p:nvSpPr>
        <p:spPr>
          <a:xfrm>
            <a:off x="3850200" y="1647720"/>
            <a:ext cx="10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PoloMatheAustria1Leicht Leicht"/>
                <a:ea typeface="PoloMatheAustria1Leicht Leicht"/>
              </a:rPr>
              <a:t>Nalo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feld 6"/>
          <p:cNvSpPr/>
          <p:nvPr/>
        </p:nvSpPr>
        <p:spPr>
          <a:xfrm>
            <a:off x="1983960" y="5238720"/>
            <a:ext cx="6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PoloMatheAustria1Leicht Leicht"/>
                <a:ea typeface="PoloMatheAustria1Leicht Leicht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feld 8"/>
          <p:cNvSpPr/>
          <p:nvPr/>
        </p:nvSpPr>
        <p:spPr>
          <a:xfrm>
            <a:off x="5923080" y="523872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PoloMatheAustria1Leicht Leicht"/>
                <a:ea typeface="PoloMatheAustria1Leicht Leicht"/>
              </a:rPr>
              <a:t>Sredst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Imagem 7" descr="title_shadow_50.png"/>
          <p:cNvPicPr/>
          <p:nvPr/>
        </p:nvPicPr>
        <p:blipFill>
          <a:blip r:embed="rId1"/>
          <a:stretch/>
        </p:blipFill>
        <p:spPr>
          <a:xfrm>
            <a:off x="311040" y="603360"/>
            <a:ext cx="8547120" cy="476280"/>
          </a:xfrm>
          <a:prstGeom prst="rect">
            <a:avLst/>
          </a:prstGeom>
          <a:ln w="0">
            <a:noFill/>
          </a:ln>
        </p:spPr>
      </p:pic>
      <p:sp>
        <p:nvSpPr>
          <p:cNvPr id="710" name="Rectângulo 9"/>
          <p:cNvSpPr/>
          <p:nvPr/>
        </p:nvSpPr>
        <p:spPr>
          <a:xfrm>
            <a:off x="0" y="-14400"/>
            <a:ext cx="9144000" cy="104940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w Cen MT"/>
                <a:ea typeface="Times New Roman"/>
              </a:rPr>
              <a:t>Korak 11: Trženje projek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65120" y="1343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Katere medije lahko uporabi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Ma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Glasi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nformativne liste/letake/izroč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Spletne stra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Ti kanali so še posebej primerni za trženje projek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2" name="Bild 1" descr="letters-1132703_1280.png"/>
          <p:cNvPicPr/>
          <p:nvPr/>
        </p:nvPicPr>
        <p:blipFill>
          <a:blip r:embed="rId2"/>
          <a:stretch/>
        </p:blipFill>
        <p:spPr>
          <a:xfrm>
            <a:off x="5829480" y="2022480"/>
            <a:ext cx="1323720" cy="1324080"/>
          </a:xfrm>
          <a:prstGeom prst="rect">
            <a:avLst/>
          </a:prstGeom>
          <a:ln w="0">
            <a:noFill/>
          </a:ln>
        </p:spPr>
      </p:pic>
      <p:pic>
        <p:nvPicPr>
          <p:cNvPr id="713" name="Bild 2" descr="social-349520_1280.png"/>
          <p:cNvPicPr/>
          <p:nvPr/>
        </p:nvPicPr>
        <p:blipFill>
          <a:blip r:embed="rId3"/>
          <a:stretch/>
        </p:blipFill>
        <p:spPr>
          <a:xfrm>
            <a:off x="5829480" y="4522680"/>
            <a:ext cx="1814400" cy="1608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Imagem 7" descr="title_shadow_50.png"/>
          <p:cNvPicPr/>
          <p:nvPr/>
        </p:nvPicPr>
        <p:blipFill>
          <a:blip r:embed="rId1"/>
          <a:stretch/>
        </p:blipFill>
        <p:spPr>
          <a:xfrm>
            <a:off x="311040" y="603360"/>
            <a:ext cx="8547120" cy="476280"/>
          </a:xfrm>
          <a:prstGeom prst="rect">
            <a:avLst/>
          </a:prstGeom>
          <a:ln w="0">
            <a:noFill/>
          </a:ln>
        </p:spPr>
      </p:pic>
      <p:sp>
        <p:nvSpPr>
          <p:cNvPr id="715" name="Rectângulo 9"/>
          <p:cNvSpPr/>
          <p:nvPr/>
        </p:nvSpPr>
        <p:spPr>
          <a:xfrm>
            <a:off x="0" y="-14400"/>
            <a:ext cx="9144000" cy="104940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w Cen MT"/>
                <a:ea typeface="Times New Roman"/>
              </a:rPr>
              <a:t>Korak 12: Dokončanje projekta in refleksija 1/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1523880" y="1397160"/>
          <a:ext cx="6096240" cy="32004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ROČILO O</a:t>
                      </a:r>
                      <a:br>
                        <a:rPr sz="1800"/>
                      </a:b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KONČANJU PROJEK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otni vti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leksija: Doseganje cilj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leksija: Naloge/ro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leksija: Sredstva/stroš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leksija: Interni odnosi v organizaciji/okoljski odno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Imagem 7" descr="title_shadow_50.png"/>
          <p:cNvPicPr/>
          <p:nvPr/>
        </p:nvPicPr>
        <p:blipFill>
          <a:blip r:embed="rId1"/>
          <a:stretch/>
        </p:blipFill>
        <p:spPr>
          <a:xfrm>
            <a:off x="311040" y="603360"/>
            <a:ext cx="8547120" cy="476280"/>
          </a:xfrm>
          <a:prstGeom prst="rect">
            <a:avLst/>
          </a:prstGeom>
          <a:ln w="0">
            <a:noFill/>
          </a:ln>
        </p:spPr>
      </p:pic>
      <p:sp>
        <p:nvSpPr>
          <p:cNvPr id="718" name="Rectângulo 9"/>
          <p:cNvSpPr/>
          <p:nvPr/>
        </p:nvSpPr>
        <p:spPr>
          <a:xfrm>
            <a:off x="0" y="-14400"/>
            <a:ext cx="9144000" cy="104940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w Cen MT"/>
                <a:ea typeface="Times New Roman"/>
              </a:rPr>
              <a:t>Korak 12: Dokončanje projekta in refleksija 2/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1523880" y="1260360"/>
          <a:ext cx="6096240" cy="5005440"/>
        </p:xfrm>
        <a:graphic>
          <a:graphicData uri="http://schemas.openxmlformats.org/drawingml/2006/table">
            <a:tbl>
              <a:tblPr/>
              <a:tblGrid>
                <a:gridCol w="1398600"/>
                <a:gridCol w="1251000"/>
                <a:gridCol w="398520"/>
                <a:gridCol w="1638360"/>
                <a:gridCol w="1409760"/>
              </a:tblGrid>
              <a:tr h="1598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tenje delovne uspešnosti (izvajalec projekta, vodja projekta, projektno osebj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čene lekcije (povzetek izkušenj in predlogi za izboljša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ovanje faze po projektu, preostale nalo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vari, ki jih je še treba oprav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a ose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8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jem projek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zvajalec projekta)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      (vodja projek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ličic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4f6228"/>
                      </a:solidFill>
                    </a:lnT>
                    <a:lnB w="5760">
                      <a:solidFill>
                        <a:srgbClr val="4f6228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Bild 204" descr="euro-1130696.jpg"/>
          <p:cNvPicPr/>
          <p:nvPr/>
        </p:nvPicPr>
        <p:blipFill>
          <a:blip r:embed="rId1"/>
          <a:srcRect l="13311" t="16098" r="11798" b="19189"/>
          <a:stretch/>
        </p:blipFill>
        <p:spPr>
          <a:xfrm>
            <a:off x="6688080" y="1936800"/>
            <a:ext cx="1230480" cy="798480"/>
          </a:xfrm>
          <a:prstGeom prst="rect">
            <a:avLst/>
          </a:prstGeom>
          <a:ln w="0">
            <a:noFill/>
          </a:ln>
        </p:spPr>
      </p:pic>
      <p:pic>
        <p:nvPicPr>
          <p:cNvPr id="506" name="Imagem 7" descr="title_shadow_50.png"/>
          <p:cNvPicPr/>
          <p:nvPr/>
        </p:nvPicPr>
        <p:blipFill>
          <a:blip r:embed="rId2"/>
          <a:stretch/>
        </p:blipFill>
        <p:spPr>
          <a:xfrm>
            <a:off x="311040" y="603360"/>
            <a:ext cx="8547120" cy="476280"/>
          </a:xfrm>
          <a:prstGeom prst="rect">
            <a:avLst/>
          </a:prstGeom>
          <a:ln w="0">
            <a:noFill/>
          </a:ln>
        </p:spPr>
      </p:pic>
      <p:sp>
        <p:nvSpPr>
          <p:cNvPr id="507" name="Rectângulo 9"/>
          <p:cNvSpPr/>
          <p:nvPr/>
        </p:nvSpPr>
        <p:spPr>
          <a:xfrm>
            <a:off x="0" y="-14400"/>
            <a:ext cx="9144000" cy="104940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w Cen MT"/>
                <a:ea typeface="Times New Roman"/>
              </a:rPr>
              <a:t>Pregled vseh faz projekta 1/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hteck 154"/>
          <p:cNvSpPr/>
          <p:nvPr/>
        </p:nvSpPr>
        <p:spPr>
          <a:xfrm>
            <a:off x="1092240" y="1187280"/>
            <a:ext cx="7007040" cy="509760"/>
          </a:xfrm>
          <a:prstGeom prst="rect">
            <a:avLst/>
          </a:prstGeom>
          <a:solidFill>
            <a:srgbClr val="90c12e"/>
          </a:solidFill>
          <a:ln w="12600">
            <a:solidFill>
              <a:srgbClr val="84aa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Faza načrto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hteck 1"/>
          <p:cNvSpPr/>
          <p:nvPr/>
        </p:nvSpPr>
        <p:spPr>
          <a:xfrm>
            <a:off x="1101600" y="3067200"/>
            <a:ext cx="21099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4aa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Korak 1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Ideja + cil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hteck 1"/>
          <p:cNvSpPr/>
          <p:nvPr/>
        </p:nvSpPr>
        <p:spPr>
          <a:xfrm>
            <a:off x="5923080" y="3067200"/>
            <a:ext cx="21114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4aa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Korak 6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Dat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hteck 1"/>
          <p:cNvSpPr/>
          <p:nvPr/>
        </p:nvSpPr>
        <p:spPr>
          <a:xfrm>
            <a:off x="3511440" y="3067200"/>
            <a:ext cx="21114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4aa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Korak 4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Logični okv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hteck 1"/>
          <p:cNvSpPr/>
          <p:nvPr/>
        </p:nvSpPr>
        <p:spPr>
          <a:xfrm>
            <a:off x="1104840" y="3803760"/>
            <a:ext cx="2108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4aa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Korak 2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Ekip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hteck 1"/>
          <p:cNvSpPr/>
          <p:nvPr/>
        </p:nvSpPr>
        <p:spPr>
          <a:xfrm>
            <a:off x="5924520" y="3798720"/>
            <a:ext cx="21099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4aa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Korak 7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Stroš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hteck 1"/>
          <p:cNvSpPr/>
          <p:nvPr/>
        </p:nvSpPr>
        <p:spPr>
          <a:xfrm>
            <a:off x="3514680" y="3803760"/>
            <a:ext cx="21114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4aa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Korak 5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Delovni sklo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hteck 1"/>
          <p:cNvSpPr/>
          <p:nvPr/>
        </p:nvSpPr>
        <p:spPr>
          <a:xfrm>
            <a:off x="1108080" y="4533840"/>
            <a:ext cx="2108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4aa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Korak 3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Okol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ichtungspfeil 3"/>
          <p:cNvSpPr/>
          <p:nvPr/>
        </p:nvSpPr>
        <p:spPr>
          <a:xfrm>
            <a:off x="1104840" y="1852560"/>
            <a:ext cx="6958080" cy="973080"/>
          </a:xfrm>
          <a:custGeom>
            <a:avLst/>
            <a:gdLst>
              <a:gd name="textAreaLeft" fmla="*/ 0 w 6958080"/>
              <a:gd name="textAreaRight" fmla="*/ 6958440 w 69580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31" y="0"/>
                </a:lnTo>
                <a:lnTo>
                  <a:pt x="21600" y="10800"/>
                </a:lnTo>
                <a:lnTo>
                  <a:pt x="2053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84aa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1498680" y="6072120"/>
            <a:ext cx="801720" cy="235080"/>
          </a:xfrm>
          <a:prstGeom prst="rect">
            <a:avLst/>
          </a:prstGeom>
          <a:solidFill>
            <a:srgbClr val="af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ÇlÇr ñæí©"/>
              </a:rPr>
              <a:t>Predlo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3130560" y="6078600"/>
            <a:ext cx="925560" cy="236520"/>
          </a:xfrm>
          <a:prstGeom prst="rect">
            <a:avLst/>
          </a:prstGeom>
          <a:solidFill>
            <a:srgbClr val="af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7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ÇlÇr ñæí©"/>
              </a:rPr>
              <a:t>Dodelitev nalo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" name="Gruppierung 165"/>
          <p:cNvGrpSpPr/>
          <p:nvPr/>
        </p:nvGrpSpPr>
        <p:grpSpPr>
          <a:xfrm>
            <a:off x="1650960" y="5327640"/>
            <a:ext cx="490680" cy="668520"/>
            <a:chOff x="1650960" y="5327640"/>
            <a:chExt cx="490680" cy="668520"/>
          </a:xfrm>
        </p:grpSpPr>
        <p:sp>
          <p:nvSpPr>
            <p:cNvPr id="520" name="Rechteck 166"/>
            <p:cNvSpPr/>
            <p:nvPr/>
          </p:nvSpPr>
          <p:spPr>
            <a:xfrm>
              <a:off x="1650960" y="5327640"/>
              <a:ext cx="490680" cy="66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Rechteck 167"/>
            <p:cNvSpPr/>
            <p:nvPr/>
          </p:nvSpPr>
          <p:spPr>
            <a:xfrm>
              <a:off x="1712880" y="5370480"/>
              <a:ext cx="36216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Rechteck 168"/>
            <p:cNvSpPr/>
            <p:nvPr/>
          </p:nvSpPr>
          <p:spPr>
            <a:xfrm>
              <a:off x="1712880" y="5452920"/>
              <a:ext cx="139680" cy="252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Rechteck 169"/>
            <p:cNvSpPr/>
            <p:nvPr/>
          </p:nvSpPr>
          <p:spPr>
            <a:xfrm>
              <a:off x="1712880" y="5484600"/>
              <a:ext cx="139680" cy="252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Rechteck 170"/>
            <p:cNvSpPr/>
            <p:nvPr/>
          </p:nvSpPr>
          <p:spPr>
            <a:xfrm>
              <a:off x="1712880" y="5516640"/>
              <a:ext cx="139680" cy="237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Rechteck 171"/>
            <p:cNvSpPr/>
            <p:nvPr/>
          </p:nvSpPr>
          <p:spPr>
            <a:xfrm>
              <a:off x="2001960" y="5452920"/>
              <a:ext cx="73080" cy="252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Rechteck 172"/>
            <p:cNvSpPr/>
            <p:nvPr/>
          </p:nvSpPr>
          <p:spPr>
            <a:xfrm>
              <a:off x="2001960" y="5484600"/>
              <a:ext cx="73080" cy="252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Rechteck 173"/>
            <p:cNvSpPr/>
            <p:nvPr/>
          </p:nvSpPr>
          <p:spPr>
            <a:xfrm>
              <a:off x="2001960" y="5516640"/>
              <a:ext cx="73080" cy="237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Rechteck 174"/>
            <p:cNvSpPr/>
            <p:nvPr/>
          </p:nvSpPr>
          <p:spPr>
            <a:xfrm>
              <a:off x="1712880" y="5584680"/>
              <a:ext cx="36216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Rechteck 175"/>
            <p:cNvSpPr/>
            <p:nvPr/>
          </p:nvSpPr>
          <p:spPr>
            <a:xfrm>
              <a:off x="1712880" y="5613480"/>
              <a:ext cx="36216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Rechteck 176"/>
            <p:cNvSpPr/>
            <p:nvPr/>
          </p:nvSpPr>
          <p:spPr>
            <a:xfrm>
              <a:off x="1712880" y="5641920"/>
              <a:ext cx="36216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Rechteck 177"/>
            <p:cNvSpPr/>
            <p:nvPr/>
          </p:nvSpPr>
          <p:spPr>
            <a:xfrm>
              <a:off x="1712880" y="5670720"/>
              <a:ext cx="36216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Rechteck 178"/>
            <p:cNvSpPr/>
            <p:nvPr/>
          </p:nvSpPr>
          <p:spPr>
            <a:xfrm>
              <a:off x="1712880" y="5700960"/>
              <a:ext cx="36216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Rechteck 179"/>
            <p:cNvSpPr/>
            <p:nvPr/>
          </p:nvSpPr>
          <p:spPr>
            <a:xfrm>
              <a:off x="1712880" y="5729400"/>
              <a:ext cx="18108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ihandform 180"/>
            <p:cNvSpPr/>
            <p:nvPr/>
          </p:nvSpPr>
          <p:spPr>
            <a:xfrm>
              <a:off x="1960560" y="5869080"/>
              <a:ext cx="95040" cy="61920"/>
            </a:xfrm>
            <a:custGeom>
              <a:avLst/>
              <a:gdLst/>
              <a:ahLst/>
              <a:rect l="l" t="t" r="r" b="b"/>
              <a:pathLst>
                <a:path w="490547" h="329251">
                  <a:moveTo>
                    <a:pt x="0" y="329251"/>
                  </a:moveTo>
                  <a:cubicBezTo>
                    <a:pt x="33599" y="327011"/>
                    <a:pt x="67582" y="328067"/>
                    <a:pt x="100797" y="322532"/>
                  </a:cubicBezTo>
                  <a:cubicBezTo>
                    <a:pt x="122300" y="318948"/>
                    <a:pt x="121853" y="301478"/>
                    <a:pt x="134397" y="288935"/>
                  </a:cubicBezTo>
                  <a:cubicBezTo>
                    <a:pt x="140108" y="283225"/>
                    <a:pt x="147836" y="279976"/>
                    <a:pt x="154556" y="275496"/>
                  </a:cubicBezTo>
                  <a:cubicBezTo>
                    <a:pt x="159036" y="268777"/>
                    <a:pt x="163302" y="261909"/>
                    <a:pt x="167996" y="255338"/>
                  </a:cubicBezTo>
                  <a:cubicBezTo>
                    <a:pt x="186374" y="229610"/>
                    <a:pt x="190115" y="230280"/>
                    <a:pt x="201595" y="201582"/>
                  </a:cubicBezTo>
                  <a:cubicBezTo>
                    <a:pt x="206856" y="188430"/>
                    <a:pt x="215034" y="161266"/>
                    <a:pt x="215034" y="161266"/>
                  </a:cubicBezTo>
                  <a:cubicBezTo>
                    <a:pt x="221455" y="109901"/>
                    <a:pt x="231301" y="58771"/>
                    <a:pt x="215034" y="6720"/>
                  </a:cubicBezTo>
                  <a:cubicBezTo>
                    <a:pt x="212279" y="-2095"/>
                    <a:pt x="197115" y="2240"/>
                    <a:pt x="188155" y="0"/>
                  </a:cubicBezTo>
                  <a:cubicBezTo>
                    <a:pt x="176046" y="4037"/>
                    <a:pt x="155976" y="8763"/>
                    <a:pt x="147836" y="20158"/>
                  </a:cubicBezTo>
                  <a:cubicBezTo>
                    <a:pt x="140825" y="29973"/>
                    <a:pt x="138877" y="42556"/>
                    <a:pt x="134397" y="53755"/>
                  </a:cubicBezTo>
                  <a:cubicBezTo>
                    <a:pt x="138877" y="94072"/>
                    <a:pt x="142355" y="134512"/>
                    <a:pt x="147836" y="174705"/>
                  </a:cubicBezTo>
                  <a:cubicBezTo>
                    <a:pt x="150521" y="194395"/>
                    <a:pt x="160218" y="217680"/>
                    <a:pt x="167996" y="235180"/>
                  </a:cubicBezTo>
                  <a:cubicBezTo>
                    <a:pt x="172064" y="244333"/>
                    <a:pt x="177715" y="252757"/>
                    <a:pt x="181435" y="262057"/>
                  </a:cubicBezTo>
                  <a:cubicBezTo>
                    <a:pt x="186696" y="275210"/>
                    <a:pt x="190395" y="288935"/>
                    <a:pt x="194875" y="302374"/>
                  </a:cubicBezTo>
                  <a:cubicBezTo>
                    <a:pt x="287585" y="249400"/>
                    <a:pt x="196339" y="303637"/>
                    <a:pt x="288952" y="241899"/>
                  </a:cubicBezTo>
                  <a:cubicBezTo>
                    <a:pt x="339051" y="208502"/>
                    <a:pt x="307241" y="237052"/>
                    <a:pt x="342711" y="201582"/>
                  </a:cubicBezTo>
                  <a:cubicBezTo>
                    <a:pt x="347191" y="221740"/>
                    <a:pt x="350078" y="242320"/>
                    <a:pt x="356151" y="262057"/>
                  </a:cubicBezTo>
                  <a:cubicBezTo>
                    <a:pt x="359097" y="271631"/>
                    <a:pt x="365644" y="279728"/>
                    <a:pt x="369590" y="288935"/>
                  </a:cubicBezTo>
                  <a:cubicBezTo>
                    <a:pt x="386280" y="327878"/>
                    <a:pt x="363925" y="290517"/>
                    <a:pt x="389750" y="329251"/>
                  </a:cubicBezTo>
                  <a:cubicBezTo>
                    <a:pt x="454528" y="319998"/>
                    <a:pt x="420950" y="322532"/>
                    <a:pt x="490547" y="32253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5" name="Gruppierung 181"/>
          <p:cNvGrpSpPr/>
          <p:nvPr/>
        </p:nvGrpSpPr>
        <p:grpSpPr>
          <a:xfrm>
            <a:off x="3341520" y="5327640"/>
            <a:ext cx="490680" cy="668520"/>
            <a:chOff x="3341520" y="5327640"/>
            <a:chExt cx="490680" cy="668520"/>
          </a:xfrm>
        </p:grpSpPr>
        <p:sp>
          <p:nvSpPr>
            <p:cNvPr id="536" name="Rechteck 182"/>
            <p:cNvSpPr/>
            <p:nvPr/>
          </p:nvSpPr>
          <p:spPr>
            <a:xfrm>
              <a:off x="3341520" y="5327640"/>
              <a:ext cx="490680" cy="66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Rechteck 183"/>
            <p:cNvSpPr/>
            <p:nvPr/>
          </p:nvSpPr>
          <p:spPr>
            <a:xfrm>
              <a:off x="3403440" y="5370480"/>
              <a:ext cx="36216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Rechteck 184"/>
            <p:cNvSpPr/>
            <p:nvPr/>
          </p:nvSpPr>
          <p:spPr>
            <a:xfrm>
              <a:off x="3403440" y="5452920"/>
              <a:ext cx="139680" cy="252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Rechteck 185"/>
            <p:cNvSpPr/>
            <p:nvPr/>
          </p:nvSpPr>
          <p:spPr>
            <a:xfrm>
              <a:off x="3403440" y="5484600"/>
              <a:ext cx="139680" cy="252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Rechteck 186"/>
            <p:cNvSpPr/>
            <p:nvPr/>
          </p:nvSpPr>
          <p:spPr>
            <a:xfrm>
              <a:off x="3403440" y="5516640"/>
              <a:ext cx="139680" cy="237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Rechteck 187"/>
            <p:cNvSpPr/>
            <p:nvPr/>
          </p:nvSpPr>
          <p:spPr>
            <a:xfrm>
              <a:off x="3692520" y="5452920"/>
              <a:ext cx="73080" cy="252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Rechteck 188"/>
            <p:cNvSpPr/>
            <p:nvPr/>
          </p:nvSpPr>
          <p:spPr>
            <a:xfrm>
              <a:off x="3692520" y="5484600"/>
              <a:ext cx="73080" cy="252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Rechteck 189"/>
            <p:cNvSpPr/>
            <p:nvPr/>
          </p:nvSpPr>
          <p:spPr>
            <a:xfrm>
              <a:off x="3692520" y="5516640"/>
              <a:ext cx="73080" cy="237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Rechteck 190"/>
            <p:cNvSpPr/>
            <p:nvPr/>
          </p:nvSpPr>
          <p:spPr>
            <a:xfrm>
              <a:off x="3403440" y="5584680"/>
              <a:ext cx="36216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Rechteck 191"/>
            <p:cNvSpPr/>
            <p:nvPr/>
          </p:nvSpPr>
          <p:spPr>
            <a:xfrm>
              <a:off x="3403440" y="5613480"/>
              <a:ext cx="36216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Rechteck 192"/>
            <p:cNvSpPr/>
            <p:nvPr/>
          </p:nvSpPr>
          <p:spPr>
            <a:xfrm>
              <a:off x="3403440" y="5641920"/>
              <a:ext cx="36216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Rechteck 193"/>
            <p:cNvSpPr/>
            <p:nvPr/>
          </p:nvSpPr>
          <p:spPr>
            <a:xfrm>
              <a:off x="3403440" y="5670720"/>
              <a:ext cx="36216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Rechteck 194"/>
            <p:cNvSpPr/>
            <p:nvPr/>
          </p:nvSpPr>
          <p:spPr>
            <a:xfrm>
              <a:off x="3403440" y="5700960"/>
              <a:ext cx="36216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Rechteck 195"/>
            <p:cNvSpPr/>
            <p:nvPr/>
          </p:nvSpPr>
          <p:spPr>
            <a:xfrm>
              <a:off x="3403440" y="5729400"/>
              <a:ext cx="18108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ihandform 196"/>
            <p:cNvSpPr/>
            <p:nvPr/>
          </p:nvSpPr>
          <p:spPr>
            <a:xfrm>
              <a:off x="3651120" y="5869080"/>
              <a:ext cx="95040" cy="61920"/>
            </a:xfrm>
            <a:custGeom>
              <a:avLst/>
              <a:gdLst/>
              <a:ahLst/>
              <a:rect l="l" t="t" r="r" b="b"/>
              <a:pathLst>
                <a:path w="490547" h="329251">
                  <a:moveTo>
                    <a:pt x="0" y="329251"/>
                  </a:moveTo>
                  <a:cubicBezTo>
                    <a:pt x="33599" y="327011"/>
                    <a:pt x="67582" y="328067"/>
                    <a:pt x="100797" y="322532"/>
                  </a:cubicBezTo>
                  <a:cubicBezTo>
                    <a:pt x="122300" y="318948"/>
                    <a:pt x="121853" y="301478"/>
                    <a:pt x="134397" y="288935"/>
                  </a:cubicBezTo>
                  <a:cubicBezTo>
                    <a:pt x="140108" y="283225"/>
                    <a:pt x="147836" y="279976"/>
                    <a:pt x="154556" y="275496"/>
                  </a:cubicBezTo>
                  <a:cubicBezTo>
                    <a:pt x="159036" y="268777"/>
                    <a:pt x="163302" y="261909"/>
                    <a:pt x="167996" y="255338"/>
                  </a:cubicBezTo>
                  <a:cubicBezTo>
                    <a:pt x="186374" y="229610"/>
                    <a:pt x="190115" y="230280"/>
                    <a:pt x="201595" y="201582"/>
                  </a:cubicBezTo>
                  <a:cubicBezTo>
                    <a:pt x="206856" y="188430"/>
                    <a:pt x="215034" y="161266"/>
                    <a:pt x="215034" y="161266"/>
                  </a:cubicBezTo>
                  <a:cubicBezTo>
                    <a:pt x="221455" y="109901"/>
                    <a:pt x="231301" y="58771"/>
                    <a:pt x="215034" y="6720"/>
                  </a:cubicBezTo>
                  <a:cubicBezTo>
                    <a:pt x="212279" y="-2095"/>
                    <a:pt x="197115" y="2240"/>
                    <a:pt x="188155" y="0"/>
                  </a:cubicBezTo>
                  <a:cubicBezTo>
                    <a:pt x="176046" y="4037"/>
                    <a:pt x="155976" y="8763"/>
                    <a:pt x="147836" y="20158"/>
                  </a:cubicBezTo>
                  <a:cubicBezTo>
                    <a:pt x="140825" y="29973"/>
                    <a:pt x="138877" y="42556"/>
                    <a:pt x="134397" y="53755"/>
                  </a:cubicBezTo>
                  <a:cubicBezTo>
                    <a:pt x="138877" y="94072"/>
                    <a:pt x="142355" y="134512"/>
                    <a:pt x="147836" y="174705"/>
                  </a:cubicBezTo>
                  <a:cubicBezTo>
                    <a:pt x="150521" y="194395"/>
                    <a:pt x="160218" y="217680"/>
                    <a:pt x="167996" y="235180"/>
                  </a:cubicBezTo>
                  <a:cubicBezTo>
                    <a:pt x="172064" y="244333"/>
                    <a:pt x="177715" y="252757"/>
                    <a:pt x="181435" y="262057"/>
                  </a:cubicBezTo>
                  <a:cubicBezTo>
                    <a:pt x="186696" y="275210"/>
                    <a:pt x="190395" y="288935"/>
                    <a:pt x="194875" y="302374"/>
                  </a:cubicBezTo>
                  <a:cubicBezTo>
                    <a:pt x="287585" y="249400"/>
                    <a:pt x="196339" y="303637"/>
                    <a:pt x="288952" y="241899"/>
                  </a:cubicBezTo>
                  <a:cubicBezTo>
                    <a:pt x="339051" y="208502"/>
                    <a:pt x="307241" y="237052"/>
                    <a:pt x="342711" y="201582"/>
                  </a:cubicBezTo>
                  <a:cubicBezTo>
                    <a:pt x="347191" y="221740"/>
                    <a:pt x="350078" y="242320"/>
                    <a:pt x="356151" y="262057"/>
                  </a:cubicBezTo>
                  <a:cubicBezTo>
                    <a:pt x="359097" y="271631"/>
                    <a:pt x="365644" y="279728"/>
                    <a:pt x="369590" y="288935"/>
                  </a:cubicBezTo>
                  <a:cubicBezTo>
                    <a:pt x="386280" y="327878"/>
                    <a:pt x="363925" y="290517"/>
                    <a:pt x="389750" y="329251"/>
                  </a:cubicBezTo>
                  <a:cubicBezTo>
                    <a:pt x="454528" y="319998"/>
                    <a:pt x="420950" y="322532"/>
                    <a:pt x="490547" y="32253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1" name="Bild 197" descr="the-light-bulb-371651.png"/>
          <p:cNvPicPr/>
          <p:nvPr/>
        </p:nvPicPr>
        <p:blipFill>
          <a:blip r:embed="rId3"/>
          <a:stretch/>
        </p:blipFill>
        <p:spPr>
          <a:xfrm>
            <a:off x="1343160" y="1887480"/>
            <a:ext cx="182520" cy="343080"/>
          </a:xfrm>
          <a:prstGeom prst="rect">
            <a:avLst/>
          </a:prstGeom>
          <a:ln w="0">
            <a:noFill/>
          </a:ln>
        </p:spPr>
      </p:pic>
      <p:pic>
        <p:nvPicPr>
          <p:cNvPr id="552" name="Bild 198" descr="darts-155726.png"/>
          <p:cNvPicPr/>
          <p:nvPr/>
        </p:nvPicPr>
        <p:blipFill>
          <a:blip r:embed="rId4"/>
          <a:stretch/>
        </p:blipFill>
        <p:spPr>
          <a:xfrm>
            <a:off x="1268280" y="2332080"/>
            <a:ext cx="405000" cy="447480"/>
          </a:xfrm>
          <a:prstGeom prst="rect">
            <a:avLst/>
          </a:prstGeom>
          <a:ln w="0">
            <a:noFill/>
          </a:ln>
        </p:spPr>
      </p:pic>
      <p:pic>
        <p:nvPicPr>
          <p:cNvPr id="553" name="Bild 199" descr="jigsaw-305576.png"/>
          <p:cNvPicPr/>
          <p:nvPr/>
        </p:nvPicPr>
        <p:blipFill>
          <a:blip r:embed="rId5"/>
          <a:stretch/>
        </p:blipFill>
        <p:spPr>
          <a:xfrm>
            <a:off x="1833480" y="1920960"/>
            <a:ext cx="1049400" cy="776160"/>
          </a:xfrm>
          <a:prstGeom prst="rect">
            <a:avLst/>
          </a:prstGeom>
          <a:ln w="0">
            <a:noFill/>
          </a:ln>
        </p:spPr>
      </p:pic>
      <p:pic>
        <p:nvPicPr>
          <p:cNvPr id="554" name="Bild 200" descr="binoculars-1015265.jpg"/>
          <p:cNvPicPr/>
          <p:nvPr/>
        </p:nvPicPr>
        <p:blipFill>
          <a:blip r:embed="rId6"/>
          <a:stretch/>
        </p:blipFill>
        <p:spPr>
          <a:xfrm>
            <a:off x="2975040" y="1855800"/>
            <a:ext cx="965160" cy="965160"/>
          </a:xfrm>
          <a:prstGeom prst="rect">
            <a:avLst/>
          </a:prstGeom>
          <a:ln w="0">
            <a:noFill/>
          </a:ln>
        </p:spPr>
      </p:pic>
      <p:pic>
        <p:nvPicPr>
          <p:cNvPr id="555" name="Bild 201" descr="frame-473631.jpg"/>
          <p:cNvPicPr/>
          <p:nvPr/>
        </p:nvPicPr>
        <p:blipFill>
          <a:blip r:embed="rId7"/>
          <a:stretch/>
        </p:blipFill>
        <p:spPr>
          <a:xfrm>
            <a:off x="3971880" y="1881360"/>
            <a:ext cx="547560" cy="915840"/>
          </a:xfrm>
          <a:prstGeom prst="rect">
            <a:avLst/>
          </a:prstGeom>
          <a:ln w="0">
            <a:noFill/>
          </a:ln>
        </p:spPr>
      </p:pic>
      <p:pic>
        <p:nvPicPr>
          <p:cNvPr id="556" name="Bild 202" descr="postal-32383_1280.png"/>
          <p:cNvPicPr/>
          <p:nvPr/>
        </p:nvPicPr>
        <p:blipFill>
          <a:blip r:embed="rId8"/>
          <a:stretch/>
        </p:blipFill>
        <p:spPr>
          <a:xfrm>
            <a:off x="4830840" y="1909800"/>
            <a:ext cx="698400" cy="801720"/>
          </a:xfrm>
          <a:prstGeom prst="rect">
            <a:avLst/>
          </a:prstGeom>
          <a:ln w="0">
            <a:noFill/>
          </a:ln>
        </p:spPr>
      </p:pic>
      <p:pic>
        <p:nvPicPr>
          <p:cNvPr id="557" name="Bild 203" descr="calendar-33104.png"/>
          <p:cNvPicPr/>
          <p:nvPr/>
        </p:nvPicPr>
        <p:blipFill>
          <a:blip r:embed="rId9"/>
          <a:stretch/>
        </p:blipFill>
        <p:spPr>
          <a:xfrm>
            <a:off x="5803920" y="1917720"/>
            <a:ext cx="911160" cy="804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Imagem 7" descr="title_shadow_50.png"/>
          <p:cNvPicPr/>
          <p:nvPr/>
        </p:nvPicPr>
        <p:blipFill>
          <a:blip r:embed="rId1"/>
          <a:stretch/>
        </p:blipFill>
        <p:spPr>
          <a:xfrm>
            <a:off x="311040" y="603360"/>
            <a:ext cx="8547120" cy="476280"/>
          </a:xfrm>
          <a:prstGeom prst="rect">
            <a:avLst/>
          </a:prstGeom>
          <a:ln w="0">
            <a:noFill/>
          </a:ln>
        </p:spPr>
      </p:pic>
      <p:sp>
        <p:nvSpPr>
          <p:cNvPr id="559" name="Rectângulo 9"/>
          <p:cNvSpPr/>
          <p:nvPr/>
        </p:nvSpPr>
        <p:spPr>
          <a:xfrm>
            <a:off x="0" y="-14400"/>
            <a:ext cx="9144000" cy="104940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w Cen MT"/>
                <a:ea typeface="Times New Roman"/>
              </a:rPr>
              <a:t>Pregled vseh faz projekta 2/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echteck 55"/>
          <p:cNvSpPr/>
          <p:nvPr/>
        </p:nvSpPr>
        <p:spPr>
          <a:xfrm>
            <a:off x="716040" y="1330200"/>
            <a:ext cx="4897440" cy="530280"/>
          </a:xfrm>
          <a:prstGeom prst="rect">
            <a:avLst/>
          </a:prstGeom>
          <a:solidFill>
            <a:srgbClr val="90c12e"/>
          </a:solidFill>
          <a:ln w="12600">
            <a:solidFill>
              <a:srgbClr val="84aa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Faza izved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hteck 1"/>
          <p:cNvSpPr/>
          <p:nvPr/>
        </p:nvSpPr>
        <p:spPr>
          <a:xfrm>
            <a:off x="5815080" y="1339920"/>
            <a:ext cx="2903400" cy="511200"/>
          </a:xfrm>
          <a:prstGeom prst="rect">
            <a:avLst/>
          </a:prstGeom>
          <a:solidFill>
            <a:srgbClr val="90c12e"/>
          </a:solidFill>
          <a:ln w="12600">
            <a:solidFill>
              <a:srgbClr val="84aa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Zaključna fa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hteck 1"/>
          <p:cNvSpPr/>
          <p:nvPr/>
        </p:nvSpPr>
        <p:spPr>
          <a:xfrm>
            <a:off x="5808600" y="3060720"/>
            <a:ext cx="2840040" cy="165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4aa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Korak 12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Zaklju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Razširj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Reflek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hteck 1"/>
          <p:cNvSpPr/>
          <p:nvPr/>
        </p:nvSpPr>
        <p:spPr>
          <a:xfrm>
            <a:off x="716040" y="3089160"/>
            <a:ext cx="2349360" cy="75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4aa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Korak 8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Začetek projek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Rechteck 1"/>
          <p:cNvSpPr/>
          <p:nvPr/>
        </p:nvSpPr>
        <p:spPr>
          <a:xfrm>
            <a:off x="3157560" y="3089160"/>
            <a:ext cx="2319480" cy="75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4aa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Korak 10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Spremlj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hteck 1"/>
          <p:cNvSpPr/>
          <p:nvPr/>
        </p:nvSpPr>
        <p:spPr>
          <a:xfrm>
            <a:off x="716040" y="3962520"/>
            <a:ext cx="2349360" cy="75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4aa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Korak 9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Projektni priročn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Rechteck 1"/>
          <p:cNvSpPr/>
          <p:nvPr/>
        </p:nvSpPr>
        <p:spPr>
          <a:xfrm>
            <a:off x="3156120" y="3962520"/>
            <a:ext cx="2319120" cy="75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4aa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Korak 11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Trženje projek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Richtungspfeil 3"/>
          <p:cNvSpPr/>
          <p:nvPr/>
        </p:nvSpPr>
        <p:spPr>
          <a:xfrm>
            <a:off x="727200" y="2052720"/>
            <a:ext cx="5060880" cy="922320"/>
          </a:xfrm>
          <a:custGeom>
            <a:avLst/>
            <a:gdLst>
              <a:gd name="textAreaLeft" fmla="*/ 0 w 5060880"/>
              <a:gd name="textAreaRight" fmla="*/ 5061240 w 5060880"/>
              <a:gd name="textAreaTop" fmla="*/ 0 h 922320"/>
              <a:gd name="textAreaBottom" fmla="*/ 922680 h 92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22" y="0"/>
                </a:lnTo>
                <a:lnTo>
                  <a:pt x="21600" y="10800"/>
                </a:lnTo>
                <a:lnTo>
                  <a:pt x="207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4aa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ichtungspfeil 3"/>
          <p:cNvSpPr/>
          <p:nvPr/>
        </p:nvSpPr>
        <p:spPr>
          <a:xfrm>
            <a:off x="5797440" y="2031840"/>
            <a:ext cx="3022560" cy="922320"/>
          </a:xfrm>
          <a:custGeom>
            <a:avLst/>
            <a:gdLst>
              <a:gd name="textAreaLeft" fmla="*/ 0 w 3022560"/>
              <a:gd name="textAreaRight" fmla="*/ 3022920 w 3022560"/>
              <a:gd name="textAreaTop" fmla="*/ 0 h 922320"/>
              <a:gd name="textAreaBottom" fmla="*/ 922680 h 92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49" y="0"/>
                </a:lnTo>
                <a:lnTo>
                  <a:pt x="21600" y="10800"/>
                </a:lnTo>
                <a:lnTo>
                  <a:pt x="203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4aa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2014560" y="6002280"/>
            <a:ext cx="2111400" cy="238320"/>
          </a:xfrm>
          <a:prstGeom prst="rect">
            <a:avLst/>
          </a:prstGeom>
          <a:solidFill>
            <a:srgbClr val="af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ÇlÇr ñæí©"/>
              </a:rPr>
              <a:t>Poročanje o napredk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6611760" y="6008760"/>
            <a:ext cx="1229040" cy="237960"/>
          </a:xfrm>
          <a:prstGeom prst="rect">
            <a:avLst/>
          </a:prstGeom>
          <a:solidFill>
            <a:srgbClr val="af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ÇlÇr ñæí©"/>
              </a:rPr>
              <a:t>Spreje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feil nach oben 1"/>
          <p:cNvSpPr/>
          <p:nvPr/>
        </p:nvSpPr>
        <p:spPr>
          <a:xfrm>
            <a:off x="5300640" y="4908600"/>
            <a:ext cx="663480" cy="1384200"/>
          </a:xfrm>
          <a:prstGeom prst="upArrow">
            <a:avLst>
              <a:gd name="adj1" fmla="val 50000"/>
              <a:gd name="adj2" fmla="val 50138"/>
            </a:avLst>
          </a:prstGeom>
          <a:solidFill>
            <a:srgbClr val="af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2" name="Gruppierung 67"/>
          <p:cNvGrpSpPr/>
          <p:nvPr/>
        </p:nvGrpSpPr>
        <p:grpSpPr>
          <a:xfrm>
            <a:off x="2828880" y="5110200"/>
            <a:ext cx="555840" cy="668160"/>
            <a:chOff x="2828880" y="5110200"/>
            <a:chExt cx="555840" cy="668160"/>
          </a:xfrm>
        </p:grpSpPr>
        <p:sp>
          <p:nvSpPr>
            <p:cNvPr id="573" name="Rechteck 68"/>
            <p:cNvSpPr/>
            <p:nvPr/>
          </p:nvSpPr>
          <p:spPr>
            <a:xfrm>
              <a:off x="2828880" y="5110200"/>
              <a:ext cx="555840" cy="668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Rechteck 69"/>
            <p:cNvSpPr/>
            <p:nvPr/>
          </p:nvSpPr>
          <p:spPr>
            <a:xfrm>
              <a:off x="2898720" y="5153040"/>
              <a:ext cx="409680" cy="536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Rechteck 70"/>
            <p:cNvSpPr/>
            <p:nvPr/>
          </p:nvSpPr>
          <p:spPr>
            <a:xfrm>
              <a:off x="2898720" y="5235480"/>
              <a:ext cx="158760" cy="252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Rechteck 71"/>
            <p:cNvSpPr/>
            <p:nvPr/>
          </p:nvSpPr>
          <p:spPr>
            <a:xfrm>
              <a:off x="2898720" y="5267160"/>
              <a:ext cx="158760" cy="252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Rechteck 72"/>
            <p:cNvSpPr/>
            <p:nvPr/>
          </p:nvSpPr>
          <p:spPr>
            <a:xfrm>
              <a:off x="2898720" y="5298840"/>
              <a:ext cx="158760" cy="237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Rechteck 73"/>
            <p:cNvSpPr/>
            <p:nvPr/>
          </p:nvSpPr>
          <p:spPr>
            <a:xfrm>
              <a:off x="3225960" y="5235480"/>
              <a:ext cx="82440" cy="252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Rechteck 74"/>
            <p:cNvSpPr/>
            <p:nvPr/>
          </p:nvSpPr>
          <p:spPr>
            <a:xfrm>
              <a:off x="3225960" y="5267160"/>
              <a:ext cx="82440" cy="252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Rechteck 75"/>
            <p:cNvSpPr/>
            <p:nvPr/>
          </p:nvSpPr>
          <p:spPr>
            <a:xfrm>
              <a:off x="3225960" y="5298840"/>
              <a:ext cx="82440" cy="237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Rechteck 76"/>
            <p:cNvSpPr/>
            <p:nvPr/>
          </p:nvSpPr>
          <p:spPr>
            <a:xfrm>
              <a:off x="2898720" y="5367240"/>
              <a:ext cx="40968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Rechteck 77"/>
            <p:cNvSpPr/>
            <p:nvPr/>
          </p:nvSpPr>
          <p:spPr>
            <a:xfrm>
              <a:off x="2900160" y="5395680"/>
              <a:ext cx="40968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Rechteck 78"/>
            <p:cNvSpPr/>
            <p:nvPr/>
          </p:nvSpPr>
          <p:spPr>
            <a:xfrm>
              <a:off x="2900160" y="5424480"/>
              <a:ext cx="40968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Rechteck 79"/>
            <p:cNvSpPr/>
            <p:nvPr/>
          </p:nvSpPr>
          <p:spPr>
            <a:xfrm>
              <a:off x="2900160" y="5452920"/>
              <a:ext cx="40968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Rechteck 80"/>
            <p:cNvSpPr/>
            <p:nvPr/>
          </p:nvSpPr>
          <p:spPr>
            <a:xfrm>
              <a:off x="2900160" y="5483160"/>
              <a:ext cx="40968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Rechteck 81"/>
            <p:cNvSpPr/>
            <p:nvPr/>
          </p:nvSpPr>
          <p:spPr>
            <a:xfrm>
              <a:off x="2898720" y="5511600"/>
              <a:ext cx="20628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ihandform 82"/>
            <p:cNvSpPr/>
            <p:nvPr/>
          </p:nvSpPr>
          <p:spPr>
            <a:xfrm>
              <a:off x="3179880" y="5651640"/>
              <a:ext cx="106200" cy="61920"/>
            </a:xfrm>
            <a:custGeom>
              <a:avLst/>
              <a:gdLst/>
              <a:ahLst/>
              <a:rect l="l" t="t" r="r" b="b"/>
              <a:pathLst>
                <a:path w="490547" h="329251">
                  <a:moveTo>
                    <a:pt x="0" y="329251"/>
                  </a:moveTo>
                  <a:cubicBezTo>
                    <a:pt x="33599" y="327011"/>
                    <a:pt x="67582" y="328067"/>
                    <a:pt x="100797" y="322532"/>
                  </a:cubicBezTo>
                  <a:cubicBezTo>
                    <a:pt x="122300" y="318948"/>
                    <a:pt x="121853" y="301478"/>
                    <a:pt x="134397" y="288935"/>
                  </a:cubicBezTo>
                  <a:cubicBezTo>
                    <a:pt x="140108" y="283225"/>
                    <a:pt x="147836" y="279976"/>
                    <a:pt x="154556" y="275496"/>
                  </a:cubicBezTo>
                  <a:cubicBezTo>
                    <a:pt x="159036" y="268777"/>
                    <a:pt x="163302" y="261909"/>
                    <a:pt x="167996" y="255338"/>
                  </a:cubicBezTo>
                  <a:cubicBezTo>
                    <a:pt x="186374" y="229610"/>
                    <a:pt x="190115" y="230280"/>
                    <a:pt x="201595" y="201582"/>
                  </a:cubicBezTo>
                  <a:cubicBezTo>
                    <a:pt x="206856" y="188430"/>
                    <a:pt x="215034" y="161266"/>
                    <a:pt x="215034" y="161266"/>
                  </a:cubicBezTo>
                  <a:cubicBezTo>
                    <a:pt x="221455" y="109901"/>
                    <a:pt x="231301" y="58771"/>
                    <a:pt x="215034" y="6720"/>
                  </a:cubicBezTo>
                  <a:cubicBezTo>
                    <a:pt x="212279" y="-2095"/>
                    <a:pt x="197115" y="2240"/>
                    <a:pt x="188155" y="0"/>
                  </a:cubicBezTo>
                  <a:cubicBezTo>
                    <a:pt x="176046" y="4037"/>
                    <a:pt x="155976" y="8763"/>
                    <a:pt x="147836" y="20158"/>
                  </a:cubicBezTo>
                  <a:cubicBezTo>
                    <a:pt x="140825" y="29973"/>
                    <a:pt x="138877" y="42556"/>
                    <a:pt x="134397" y="53755"/>
                  </a:cubicBezTo>
                  <a:cubicBezTo>
                    <a:pt x="138877" y="94072"/>
                    <a:pt x="142355" y="134512"/>
                    <a:pt x="147836" y="174705"/>
                  </a:cubicBezTo>
                  <a:cubicBezTo>
                    <a:pt x="150521" y="194395"/>
                    <a:pt x="160218" y="217680"/>
                    <a:pt x="167996" y="235180"/>
                  </a:cubicBezTo>
                  <a:cubicBezTo>
                    <a:pt x="172064" y="244333"/>
                    <a:pt x="177715" y="252757"/>
                    <a:pt x="181435" y="262057"/>
                  </a:cubicBezTo>
                  <a:cubicBezTo>
                    <a:pt x="186696" y="275210"/>
                    <a:pt x="190395" y="288935"/>
                    <a:pt x="194875" y="302374"/>
                  </a:cubicBezTo>
                  <a:cubicBezTo>
                    <a:pt x="287585" y="249400"/>
                    <a:pt x="196339" y="303637"/>
                    <a:pt x="288952" y="241899"/>
                  </a:cubicBezTo>
                  <a:cubicBezTo>
                    <a:pt x="339051" y="208502"/>
                    <a:pt x="307241" y="237052"/>
                    <a:pt x="342711" y="201582"/>
                  </a:cubicBezTo>
                  <a:cubicBezTo>
                    <a:pt x="347191" y="221740"/>
                    <a:pt x="350078" y="242320"/>
                    <a:pt x="356151" y="262057"/>
                  </a:cubicBezTo>
                  <a:cubicBezTo>
                    <a:pt x="359097" y="271631"/>
                    <a:pt x="365644" y="279728"/>
                    <a:pt x="369590" y="288935"/>
                  </a:cubicBezTo>
                  <a:cubicBezTo>
                    <a:pt x="386280" y="327878"/>
                    <a:pt x="363925" y="290517"/>
                    <a:pt x="389750" y="329251"/>
                  </a:cubicBezTo>
                  <a:cubicBezTo>
                    <a:pt x="454528" y="319998"/>
                    <a:pt x="420950" y="322532"/>
                    <a:pt x="490547" y="32253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8" name="Gruppierung 83"/>
          <p:cNvGrpSpPr/>
          <p:nvPr/>
        </p:nvGrpSpPr>
        <p:grpSpPr>
          <a:xfrm>
            <a:off x="6937200" y="5111640"/>
            <a:ext cx="555840" cy="668520"/>
            <a:chOff x="6937200" y="5111640"/>
            <a:chExt cx="555840" cy="668520"/>
          </a:xfrm>
        </p:grpSpPr>
        <p:sp>
          <p:nvSpPr>
            <p:cNvPr id="589" name="Rechteck 84"/>
            <p:cNvSpPr/>
            <p:nvPr/>
          </p:nvSpPr>
          <p:spPr>
            <a:xfrm>
              <a:off x="6937200" y="5111640"/>
              <a:ext cx="555840" cy="66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Rechteck 85"/>
            <p:cNvSpPr/>
            <p:nvPr/>
          </p:nvSpPr>
          <p:spPr>
            <a:xfrm>
              <a:off x="7007040" y="5154480"/>
              <a:ext cx="4096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Rechteck 86"/>
            <p:cNvSpPr/>
            <p:nvPr/>
          </p:nvSpPr>
          <p:spPr>
            <a:xfrm>
              <a:off x="7007040" y="5236920"/>
              <a:ext cx="158760" cy="252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Rechteck 87"/>
            <p:cNvSpPr/>
            <p:nvPr/>
          </p:nvSpPr>
          <p:spPr>
            <a:xfrm>
              <a:off x="7007040" y="5268600"/>
              <a:ext cx="158760" cy="252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Rechteck 88"/>
            <p:cNvSpPr/>
            <p:nvPr/>
          </p:nvSpPr>
          <p:spPr>
            <a:xfrm>
              <a:off x="7007040" y="5300640"/>
              <a:ext cx="158760" cy="237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Rechteck 89"/>
            <p:cNvSpPr/>
            <p:nvPr/>
          </p:nvSpPr>
          <p:spPr>
            <a:xfrm>
              <a:off x="7334280" y="5236920"/>
              <a:ext cx="82440" cy="252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Rechteck 90"/>
            <p:cNvSpPr/>
            <p:nvPr/>
          </p:nvSpPr>
          <p:spPr>
            <a:xfrm>
              <a:off x="7334280" y="5268600"/>
              <a:ext cx="82440" cy="252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Rechteck 91"/>
            <p:cNvSpPr/>
            <p:nvPr/>
          </p:nvSpPr>
          <p:spPr>
            <a:xfrm>
              <a:off x="7334280" y="5300640"/>
              <a:ext cx="82440" cy="237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Rechteck 92"/>
            <p:cNvSpPr/>
            <p:nvPr/>
          </p:nvSpPr>
          <p:spPr>
            <a:xfrm>
              <a:off x="7007040" y="5368680"/>
              <a:ext cx="40968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Rechteck 93"/>
            <p:cNvSpPr/>
            <p:nvPr/>
          </p:nvSpPr>
          <p:spPr>
            <a:xfrm>
              <a:off x="7008480" y="5397480"/>
              <a:ext cx="40968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Rechteck 94"/>
            <p:cNvSpPr/>
            <p:nvPr/>
          </p:nvSpPr>
          <p:spPr>
            <a:xfrm>
              <a:off x="7008480" y="5425920"/>
              <a:ext cx="40968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Rechteck 95"/>
            <p:cNvSpPr/>
            <p:nvPr/>
          </p:nvSpPr>
          <p:spPr>
            <a:xfrm>
              <a:off x="7008480" y="5454720"/>
              <a:ext cx="40968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Rechteck 96"/>
            <p:cNvSpPr/>
            <p:nvPr/>
          </p:nvSpPr>
          <p:spPr>
            <a:xfrm>
              <a:off x="7008480" y="5484960"/>
              <a:ext cx="40968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Rechteck 97"/>
            <p:cNvSpPr/>
            <p:nvPr/>
          </p:nvSpPr>
          <p:spPr>
            <a:xfrm>
              <a:off x="7007040" y="5513400"/>
              <a:ext cx="206280" cy="205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ihandform 98"/>
            <p:cNvSpPr/>
            <p:nvPr/>
          </p:nvSpPr>
          <p:spPr>
            <a:xfrm>
              <a:off x="7288200" y="5653080"/>
              <a:ext cx="106200" cy="61920"/>
            </a:xfrm>
            <a:custGeom>
              <a:avLst/>
              <a:gdLst/>
              <a:ahLst/>
              <a:rect l="l" t="t" r="r" b="b"/>
              <a:pathLst>
                <a:path w="490547" h="329251">
                  <a:moveTo>
                    <a:pt x="0" y="329251"/>
                  </a:moveTo>
                  <a:cubicBezTo>
                    <a:pt x="33599" y="327011"/>
                    <a:pt x="67582" y="328067"/>
                    <a:pt x="100797" y="322532"/>
                  </a:cubicBezTo>
                  <a:cubicBezTo>
                    <a:pt x="122300" y="318948"/>
                    <a:pt x="121853" y="301478"/>
                    <a:pt x="134397" y="288935"/>
                  </a:cubicBezTo>
                  <a:cubicBezTo>
                    <a:pt x="140108" y="283225"/>
                    <a:pt x="147836" y="279976"/>
                    <a:pt x="154556" y="275496"/>
                  </a:cubicBezTo>
                  <a:cubicBezTo>
                    <a:pt x="159036" y="268777"/>
                    <a:pt x="163302" y="261909"/>
                    <a:pt x="167996" y="255338"/>
                  </a:cubicBezTo>
                  <a:cubicBezTo>
                    <a:pt x="186374" y="229610"/>
                    <a:pt x="190115" y="230280"/>
                    <a:pt x="201595" y="201582"/>
                  </a:cubicBezTo>
                  <a:cubicBezTo>
                    <a:pt x="206856" y="188430"/>
                    <a:pt x="215034" y="161266"/>
                    <a:pt x="215034" y="161266"/>
                  </a:cubicBezTo>
                  <a:cubicBezTo>
                    <a:pt x="221455" y="109901"/>
                    <a:pt x="231301" y="58771"/>
                    <a:pt x="215034" y="6720"/>
                  </a:cubicBezTo>
                  <a:cubicBezTo>
                    <a:pt x="212279" y="-2095"/>
                    <a:pt x="197115" y="2240"/>
                    <a:pt x="188155" y="0"/>
                  </a:cubicBezTo>
                  <a:cubicBezTo>
                    <a:pt x="176046" y="4037"/>
                    <a:pt x="155976" y="8763"/>
                    <a:pt x="147836" y="20158"/>
                  </a:cubicBezTo>
                  <a:cubicBezTo>
                    <a:pt x="140825" y="29973"/>
                    <a:pt x="138877" y="42556"/>
                    <a:pt x="134397" y="53755"/>
                  </a:cubicBezTo>
                  <a:cubicBezTo>
                    <a:pt x="138877" y="94072"/>
                    <a:pt x="142355" y="134512"/>
                    <a:pt x="147836" y="174705"/>
                  </a:cubicBezTo>
                  <a:cubicBezTo>
                    <a:pt x="150521" y="194395"/>
                    <a:pt x="160218" y="217680"/>
                    <a:pt x="167996" y="235180"/>
                  </a:cubicBezTo>
                  <a:cubicBezTo>
                    <a:pt x="172064" y="244333"/>
                    <a:pt x="177715" y="252757"/>
                    <a:pt x="181435" y="262057"/>
                  </a:cubicBezTo>
                  <a:cubicBezTo>
                    <a:pt x="186696" y="275210"/>
                    <a:pt x="190395" y="288935"/>
                    <a:pt x="194875" y="302374"/>
                  </a:cubicBezTo>
                  <a:cubicBezTo>
                    <a:pt x="287585" y="249400"/>
                    <a:pt x="196339" y="303637"/>
                    <a:pt x="288952" y="241899"/>
                  </a:cubicBezTo>
                  <a:cubicBezTo>
                    <a:pt x="339051" y="208502"/>
                    <a:pt x="307241" y="237052"/>
                    <a:pt x="342711" y="201582"/>
                  </a:cubicBezTo>
                  <a:cubicBezTo>
                    <a:pt x="347191" y="221740"/>
                    <a:pt x="350078" y="242320"/>
                    <a:pt x="356151" y="262057"/>
                  </a:cubicBezTo>
                  <a:cubicBezTo>
                    <a:pt x="359097" y="271631"/>
                    <a:pt x="365644" y="279728"/>
                    <a:pt x="369590" y="288935"/>
                  </a:cubicBezTo>
                  <a:cubicBezTo>
                    <a:pt x="386280" y="327878"/>
                    <a:pt x="363925" y="290517"/>
                    <a:pt x="389750" y="329251"/>
                  </a:cubicBezTo>
                  <a:cubicBezTo>
                    <a:pt x="454528" y="319998"/>
                    <a:pt x="420950" y="322532"/>
                    <a:pt x="490547" y="32253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4" name="Textfeld 99"/>
          <p:cNvSpPr/>
          <p:nvPr/>
        </p:nvSpPr>
        <p:spPr>
          <a:xfrm>
            <a:off x="5120640" y="561024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PoloMatheAustria1Leicht Leicht"/>
              </a:rPr>
              <a:t>Dokončan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Bild 100" descr="play-1073616.png"/>
          <p:cNvPicPr/>
          <p:nvPr/>
        </p:nvPicPr>
        <p:blipFill>
          <a:blip r:embed="rId2"/>
          <a:stretch/>
        </p:blipFill>
        <p:spPr>
          <a:xfrm>
            <a:off x="1052640" y="2259000"/>
            <a:ext cx="603000" cy="603360"/>
          </a:xfrm>
          <a:prstGeom prst="rect">
            <a:avLst/>
          </a:prstGeom>
          <a:ln w="0">
            <a:noFill/>
          </a:ln>
        </p:spPr>
      </p:pic>
      <p:pic>
        <p:nvPicPr>
          <p:cNvPr id="606" name="Bild 101" descr="notebook-1076812.jpg"/>
          <p:cNvPicPr/>
          <p:nvPr/>
        </p:nvPicPr>
        <p:blipFill>
          <a:blip r:embed="rId3"/>
          <a:srcRect l="9655" t="2984" r="9039" b="6714"/>
          <a:stretch/>
        </p:blipFill>
        <p:spPr>
          <a:xfrm>
            <a:off x="2278080" y="2098800"/>
            <a:ext cx="619200" cy="784080"/>
          </a:xfrm>
          <a:prstGeom prst="rect">
            <a:avLst/>
          </a:prstGeom>
          <a:ln w="0">
            <a:noFill/>
          </a:ln>
        </p:spPr>
      </p:pic>
      <p:pic>
        <p:nvPicPr>
          <p:cNvPr id="607" name="Bild 102" descr="magnifying-glass-1141525.png"/>
          <p:cNvPicPr/>
          <p:nvPr/>
        </p:nvPicPr>
        <p:blipFill>
          <a:blip r:embed="rId4"/>
          <a:stretch/>
        </p:blipFill>
        <p:spPr>
          <a:xfrm>
            <a:off x="3394080" y="2144880"/>
            <a:ext cx="771480" cy="772920"/>
          </a:xfrm>
          <a:prstGeom prst="rect">
            <a:avLst/>
          </a:prstGeom>
          <a:ln w="0">
            <a:noFill/>
          </a:ln>
        </p:spPr>
      </p:pic>
      <p:pic>
        <p:nvPicPr>
          <p:cNvPr id="608" name="Bild 103" descr="sound-651706.png"/>
          <p:cNvPicPr/>
          <p:nvPr/>
        </p:nvPicPr>
        <p:blipFill>
          <a:blip r:embed="rId5"/>
          <a:stretch/>
        </p:blipFill>
        <p:spPr>
          <a:xfrm>
            <a:off x="4535640" y="2190600"/>
            <a:ext cx="718920" cy="606600"/>
          </a:xfrm>
          <a:prstGeom prst="rect">
            <a:avLst/>
          </a:prstGeom>
          <a:ln w="0">
            <a:noFill/>
          </a:ln>
        </p:spPr>
      </p:pic>
      <p:pic>
        <p:nvPicPr>
          <p:cNvPr id="609" name="Bild 104" descr="checkered-flag-309862_1280.png"/>
          <p:cNvPicPr/>
          <p:nvPr/>
        </p:nvPicPr>
        <p:blipFill>
          <a:blip r:embed="rId6"/>
          <a:stretch/>
        </p:blipFill>
        <p:spPr>
          <a:xfrm>
            <a:off x="6892920" y="2103480"/>
            <a:ext cx="852480" cy="757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Imagem 7" descr="title_shadow_50.png"/>
          <p:cNvPicPr/>
          <p:nvPr/>
        </p:nvPicPr>
        <p:blipFill>
          <a:blip r:embed="rId1"/>
          <a:stretch/>
        </p:blipFill>
        <p:spPr>
          <a:xfrm>
            <a:off x="311040" y="603360"/>
            <a:ext cx="8547120" cy="476280"/>
          </a:xfrm>
          <a:prstGeom prst="rect">
            <a:avLst/>
          </a:prstGeom>
          <a:ln w="0">
            <a:noFill/>
          </a:ln>
        </p:spPr>
      </p:pic>
      <p:sp>
        <p:nvSpPr>
          <p:cNvPr id="611" name="Rectângulo 9"/>
          <p:cNvSpPr/>
          <p:nvPr/>
        </p:nvSpPr>
        <p:spPr>
          <a:xfrm>
            <a:off x="0" y="-14400"/>
            <a:ext cx="9144000" cy="104940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w Cen MT"/>
                <a:ea typeface="Times New Roman"/>
              </a:rPr>
              <a:t>Korak 1: Projektna ideja in cil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311040" y="1407960"/>
          <a:ext cx="8361360" cy="4794480"/>
        </p:xfrm>
        <a:graphic>
          <a:graphicData uri="http://schemas.openxmlformats.org/drawingml/2006/table">
            <a:tbl>
              <a:tblPr/>
              <a:tblGrid>
                <a:gridCol w="695520"/>
                <a:gridCol w="2414520"/>
                <a:gridCol w="5251320"/>
              </a:tblGrid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č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lji morajo biti jasno definirani (ne nedoločno, temveč čim bolj natančno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lj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lji morajo biti merljivi (potrebujete konkretne kriterije za merjenje napredka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cepti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cilji morajo soglašati vsi prejemniki (A je okrajšava tudi za: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ropriate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primeren,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active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privlačen,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hievable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dosegljiv ali ambiciozen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stič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lji morajo biti dosegljiv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ly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voč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sak cilj potrebuje jasno časovno omejitev, ki določa, do kdaj mora biti dosež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613" name="Bild 105" descr="Macintosh HD:Users:FROE:Desktop:YOUth Start:_TO DO:B2_Start Your Project_Challenge:EN:Fotos_Pixabay_Starte dein Projekt:darts-155726.png"/>
          <p:cNvPicPr/>
          <p:nvPr/>
        </p:nvPicPr>
        <p:blipFill>
          <a:blip r:embed="rId2"/>
          <a:stretch/>
        </p:blipFill>
        <p:spPr>
          <a:xfrm>
            <a:off x="2284560" y="2149560"/>
            <a:ext cx="576000" cy="636480"/>
          </a:xfrm>
          <a:prstGeom prst="rect">
            <a:avLst/>
          </a:prstGeom>
          <a:ln w="0">
            <a:noFill/>
          </a:ln>
        </p:spPr>
      </p:pic>
      <p:pic>
        <p:nvPicPr>
          <p:cNvPr id="614" name="Bild 106" descr="Macintosh HD:Users:FROE:Desktop:YOUth Start:_TO DO:B2_Start Your Project_Challenge:EN:Fotos_Pixabay_Starte dein Projekt:tape-158276.png"/>
          <p:cNvPicPr/>
          <p:nvPr/>
        </p:nvPicPr>
        <p:blipFill>
          <a:blip r:embed="rId3"/>
          <a:stretch/>
        </p:blipFill>
        <p:spPr>
          <a:xfrm>
            <a:off x="2041560" y="2871720"/>
            <a:ext cx="762120" cy="598680"/>
          </a:xfrm>
          <a:prstGeom prst="rect">
            <a:avLst/>
          </a:prstGeom>
          <a:ln w="0">
            <a:noFill/>
          </a:ln>
        </p:spPr>
      </p:pic>
      <p:pic>
        <p:nvPicPr>
          <p:cNvPr id="615" name="Bild 107" descr="Macintosh HD:Users:FROE:Desktop:YOUth Start:_TO DO:B2_Start Your Project_Challenge:EN:Fotos_Pixabay_Starte dein Projekt:thumbs-up-1006172_1920.png"/>
          <p:cNvPicPr/>
          <p:nvPr/>
        </p:nvPicPr>
        <p:blipFill>
          <a:blip r:embed="rId4"/>
          <a:srcRect l="0" t="14768" r="32580" b="0"/>
          <a:stretch/>
        </p:blipFill>
        <p:spPr>
          <a:xfrm>
            <a:off x="1873080" y="3657600"/>
            <a:ext cx="1170000" cy="900000"/>
          </a:xfrm>
          <a:prstGeom prst="rect">
            <a:avLst/>
          </a:prstGeom>
          <a:ln w="0">
            <a:noFill/>
          </a:ln>
        </p:spPr>
      </p:pic>
      <p:pic>
        <p:nvPicPr>
          <p:cNvPr id="616" name="Bild 108" descr="Macintosh HD:Users:FROE:Desktop:YOUth Start:_TO DO:B2_Start Your Project_Challenge:EN:Fotos_Pixabay_Starte dein Projekt:star-1139372.png"/>
          <p:cNvPicPr/>
          <p:nvPr/>
        </p:nvPicPr>
        <p:blipFill>
          <a:blip r:embed="rId5"/>
          <a:stretch/>
        </p:blipFill>
        <p:spPr>
          <a:xfrm>
            <a:off x="2336760" y="4811760"/>
            <a:ext cx="603360" cy="638280"/>
          </a:xfrm>
          <a:prstGeom prst="rect">
            <a:avLst/>
          </a:prstGeom>
          <a:ln w="0">
            <a:noFill/>
          </a:ln>
        </p:spPr>
      </p:pic>
      <p:pic>
        <p:nvPicPr>
          <p:cNvPr id="617" name="Bild 109" descr="Macintosh HD:Users:FROE:Desktop:YOUth Start:_TO DO:B2_Start Your Project_Challenge:EN:Fotos_Pixabay_Starte dein Projekt:calendar-33104.png"/>
          <p:cNvPicPr/>
          <p:nvPr/>
        </p:nvPicPr>
        <p:blipFill>
          <a:blip r:embed="rId6"/>
          <a:stretch/>
        </p:blipFill>
        <p:spPr>
          <a:xfrm>
            <a:off x="2465280" y="5603760"/>
            <a:ext cx="544680" cy="503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Imagem 7" descr="title_shadow_50.png"/>
          <p:cNvPicPr/>
          <p:nvPr/>
        </p:nvPicPr>
        <p:blipFill>
          <a:blip r:embed="rId1"/>
          <a:stretch/>
        </p:blipFill>
        <p:spPr>
          <a:xfrm>
            <a:off x="311040" y="603360"/>
            <a:ext cx="8547120" cy="476280"/>
          </a:xfrm>
          <a:prstGeom prst="rect">
            <a:avLst/>
          </a:prstGeom>
          <a:ln w="0">
            <a:noFill/>
          </a:ln>
        </p:spPr>
      </p:pic>
      <p:sp>
        <p:nvSpPr>
          <p:cNvPr id="619" name="Rectângulo 9"/>
          <p:cNvSpPr/>
          <p:nvPr/>
        </p:nvSpPr>
        <p:spPr>
          <a:xfrm>
            <a:off x="0" y="-14400"/>
            <a:ext cx="9144000" cy="104940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w Cen MT"/>
                <a:ea typeface="Times New Roman"/>
              </a:rPr>
              <a:t>Korak 2: Krepitev tima (</a:t>
            </a:r>
            <a:r>
              <a:rPr b="0" i="1" lang="pt-PT" sz="3200" spc="-1" strike="noStrike">
                <a:solidFill>
                  <a:srgbClr val="ffffff"/>
                </a:solidFill>
                <a:latin typeface="Tw Cen MT"/>
                <a:ea typeface="Times New Roman"/>
              </a:rPr>
              <a:t>team building</a:t>
            </a:r>
            <a:r>
              <a:rPr b="0" lang="pt-PT" sz="3200" spc="-1" strike="noStrike">
                <a:solidFill>
                  <a:srgbClr val="ffffff"/>
                </a:solidFill>
                <a:latin typeface="Tw Cen MT"/>
                <a:ea typeface="Times New Roman"/>
              </a:rPr>
              <a:t>) in vloge znotraj projek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0" name="Gruppierung 1"/>
          <p:cNvGrpSpPr/>
          <p:nvPr/>
        </p:nvGrpSpPr>
        <p:grpSpPr>
          <a:xfrm>
            <a:off x="841320" y="1469880"/>
            <a:ext cx="7634520" cy="4389480"/>
            <a:chOff x="841320" y="1469880"/>
            <a:chExt cx="7634520" cy="4389480"/>
          </a:xfrm>
        </p:grpSpPr>
        <p:sp>
          <p:nvSpPr>
            <p:cNvPr id="621" name="Oval 9"/>
            <p:cNvSpPr/>
            <p:nvPr/>
          </p:nvSpPr>
          <p:spPr>
            <a:xfrm>
              <a:off x="1884240" y="2489040"/>
              <a:ext cx="4826160" cy="2168640"/>
            </a:xfrm>
            <a:prstGeom prst="ellipse">
              <a:avLst/>
            </a:prstGeom>
            <a:solidFill>
              <a:srgbClr val="afd173"/>
            </a:solidFill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Oval 10"/>
            <p:cNvSpPr/>
            <p:nvPr/>
          </p:nvSpPr>
          <p:spPr>
            <a:xfrm>
              <a:off x="841320" y="1469880"/>
              <a:ext cx="6937560" cy="4389480"/>
            </a:xfrm>
            <a:prstGeom prst="ellipse">
              <a:avLst/>
            </a:prstGeom>
            <a:noFill/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Oval 12"/>
            <p:cNvSpPr/>
            <p:nvPr/>
          </p:nvSpPr>
          <p:spPr>
            <a:xfrm>
              <a:off x="7004160" y="1480680"/>
              <a:ext cx="1471680" cy="725400"/>
            </a:xfrm>
            <a:prstGeom prst="ellipse">
              <a:avLst/>
            </a:prstGeom>
            <a:noFill/>
            <a:ln w="12600">
              <a:solidFill>
                <a:srgbClr val="84aa3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Projektni trene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Oval 13"/>
            <p:cNvSpPr/>
            <p:nvPr/>
          </p:nvSpPr>
          <p:spPr>
            <a:xfrm>
              <a:off x="3575160" y="1587240"/>
              <a:ext cx="1471680" cy="7254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Izvajalec projekt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3575160" y="2568240"/>
              <a:ext cx="1471680" cy="72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Vodja projekt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Rechteck 15"/>
            <p:cNvSpPr/>
            <p:nvPr/>
          </p:nvSpPr>
          <p:spPr>
            <a:xfrm>
              <a:off x="2355840" y="3054240"/>
              <a:ext cx="1171440" cy="52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Član projektne ekip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Rechteck 16"/>
            <p:cNvSpPr/>
            <p:nvPr/>
          </p:nvSpPr>
          <p:spPr>
            <a:xfrm>
              <a:off x="2921040" y="3903480"/>
              <a:ext cx="1173240" cy="528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Član projektne ekip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Rechteck 17"/>
            <p:cNvSpPr/>
            <p:nvPr/>
          </p:nvSpPr>
          <p:spPr>
            <a:xfrm>
              <a:off x="5064120" y="3057480"/>
              <a:ext cx="1173240" cy="52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Član projektne ekip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Rechteck 18"/>
            <p:cNvSpPr/>
            <p:nvPr/>
          </p:nvSpPr>
          <p:spPr>
            <a:xfrm>
              <a:off x="4446720" y="3781440"/>
              <a:ext cx="1173240" cy="528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Član projektne ekip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Rechteck 19"/>
            <p:cNvSpPr/>
            <p:nvPr/>
          </p:nvSpPr>
          <p:spPr>
            <a:xfrm>
              <a:off x="2184120" y="4689360"/>
              <a:ext cx="1173240" cy="529920"/>
            </a:xfrm>
            <a:prstGeom prst="rect">
              <a:avLst/>
            </a:prstGeom>
            <a:noFill/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Projektno osebj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Rechteck 20"/>
            <p:cNvSpPr/>
            <p:nvPr/>
          </p:nvSpPr>
          <p:spPr>
            <a:xfrm>
              <a:off x="3552840" y="4908600"/>
              <a:ext cx="1173240" cy="529920"/>
            </a:xfrm>
            <a:prstGeom prst="rect">
              <a:avLst/>
            </a:prstGeom>
            <a:noFill/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Projektno osebj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Rechteck 21"/>
            <p:cNvSpPr/>
            <p:nvPr/>
          </p:nvSpPr>
          <p:spPr>
            <a:xfrm>
              <a:off x="5538960" y="4610160"/>
              <a:ext cx="1173240" cy="529920"/>
            </a:xfrm>
            <a:prstGeom prst="rect">
              <a:avLst/>
            </a:prstGeom>
            <a:noFill/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Projektno osebj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Rechteck 22"/>
            <p:cNvSpPr/>
            <p:nvPr/>
          </p:nvSpPr>
          <p:spPr>
            <a:xfrm>
              <a:off x="3654360" y="3240000"/>
              <a:ext cx="133200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Osrednja projektna ekip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Rechteck 23"/>
            <p:cNvSpPr/>
            <p:nvPr/>
          </p:nvSpPr>
          <p:spPr>
            <a:xfrm>
              <a:off x="1439640" y="4111560"/>
              <a:ext cx="133200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Podekip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Gerade Verbindung 24"/>
            <p:cNvSpPr/>
            <p:nvPr/>
          </p:nvSpPr>
          <p:spPr>
            <a:xfrm flipH="1">
              <a:off x="6762960" y="1844280"/>
              <a:ext cx="241200" cy="268200"/>
            </a:xfrm>
            <a:prstGeom prst="line">
              <a:avLst/>
            </a:prstGeom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Gerade Verbindung 25"/>
            <p:cNvSpPr/>
            <p:nvPr/>
          </p:nvSpPr>
          <p:spPr>
            <a:xfrm flipH="1" flipV="1">
              <a:off x="6003720" y="4339800"/>
              <a:ext cx="120600" cy="269640"/>
            </a:xfrm>
            <a:prstGeom prst="line">
              <a:avLst/>
            </a:prstGeom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ihandform 26"/>
            <p:cNvSpPr/>
            <p:nvPr/>
          </p:nvSpPr>
          <p:spPr>
            <a:xfrm>
              <a:off x="1633320" y="3762360"/>
              <a:ext cx="3268800" cy="1882800"/>
            </a:xfrm>
            <a:custGeom>
              <a:avLst/>
              <a:gdLst/>
              <a:ahLst/>
              <a:rect l="l" t="t" r="r" b="b"/>
              <a:pathLst>
                <a:path w="2112397" h="926548">
                  <a:moveTo>
                    <a:pt x="1691213" y="25917"/>
                  </a:moveTo>
                  <a:lnTo>
                    <a:pt x="745170" y="0"/>
                  </a:lnTo>
                  <a:lnTo>
                    <a:pt x="0" y="233257"/>
                  </a:lnTo>
                  <a:lnTo>
                    <a:pt x="317507" y="751606"/>
                  </a:lnTo>
                  <a:lnTo>
                    <a:pt x="1231151" y="926548"/>
                  </a:lnTo>
                  <a:lnTo>
                    <a:pt x="2112397" y="874713"/>
                  </a:lnTo>
                  <a:lnTo>
                    <a:pt x="2105917" y="492431"/>
                  </a:lnTo>
                  <a:lnTo>
                    <a:pt x="1730092" y="298050"/>
                  </a:lnTo>
                  <a:lnTo>
                    <a:pt x="1691213" y="25917"/>
                  </a:lnTo>
                  <a:close/>
                </a:path>
              </a:pathLst>
            </a:custGeom>
            <a:noFill/>
            <a:ln w="12600">
              <a:solidFill>
                <a:srgbClr val="58742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Gerade Verbindung 27"/>
            <p:cNvSpPr/>
            <p:nvPr/>
          </p:nvSpPr>
          <p:spPr>
            <a:xfrm>
              <a:off x="3508200" y="4432320"/>
              <a:ext cx="631800" cy="476280"/>
            </a:xfrm>
            <a:prstGeom prst="line">
              <a:avLst/>
            </a:prstGeom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Gerade Verbindung 28"/>
            <p:cNvSpPr/>
            <p:nvPr/>
          </p:nvSpPr>
          <p:spPr>
            <a:xfrm flipH="1">
              <a:off x="2771640" y="4432320"/>
              <a:ext cx="736560" cy="257040"/>
            </a:xfrm>
            <a:prstGeom prst="line">
              <a:avLst/>
            </a:prstGeom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Gerade Verbindung 29"/>
            <p:cNvSpPr/>
            <p:nvPr/>
          </p:nvSpPr>
          <p:spPr>
            <a:xfrm>
              <a:off x="3357360" y="4954680"/>
              <a:ext cx="195120" cy="218880"/>
            </a:xfrm>
            <a:prstGeom prst="line">
              <a:avLst/>
            </a:prstGeom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Gerade Verbindung 30"/>
            <p:cNvSpPr/>
            <p:nvPr/>
          </p:nvSpPr>
          <p:spPr>
            <a:xfrm>
              <a:off x="4311720" y="2312640"/>
              <a:ext cx="0" cy="255600"/>
            </a:xfrm>
            <a:prstGeom prst="line">
              <a:avLst/>
            </a:prstGeom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Imagem 7" descr="title_shadow_50.png"/>
          <p:cNvPicPr/>
          <p:nvPr/>
        </p:nvPicPr>
        <p:blipFill>
          <a:blip r:embed="rId1"/>
          <a:stretch/>
        </p:blipFill>
        <p:spPr>
          <a:xfrm>
            <a:off x="311040" y="603360"/>
            <a:ext cx="8547120" cy="476280"/>
          </a:xfrm>
          <a:prstGeom prst="rect">
            <a:avLst/>
          </a:prstGeom>
          <a:ln w="0">
            <a:noFill/>
          </a:ln>
        </p:spPr>
      </p:pic>
      <p:sp>
        <p:nvSpPr>
          <p:cNvPr id="643" name="Rectângulo 9"/>
          <p:cNvSpPr/>
          <p:nvPr/>
        </p:nvSpPr>
        <p:spPr>
          <a:xfrm>
            <a:off x="0" y="-14400"/>
            <a:ext cx="9144000" cy="104940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w Cen MT"/>
                <a:ea typeface="Times New Roman"/>
              </a:rPr>
              <a:t>Korak 3: Projektno okolje in deležn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4" name="Gruppierung 31"/>
          <p:cNvGrpSpPr/>
          <p:nvPr/>
        </p:nvGrpSpPr>
        <p:grpSpPr>
          <a:xfrm>
            <a:off x="1182600" y="1353960"/>
            <a:ext cx="6954840" cy="4629240"/>
            <a:chOff x="1182600" y="1353960"/>
            <a:chExt cx="6954840" cy="4629240"/>
          </a:xfrm>
        </p:grpSpPr>
        <p:sp>
          <p:nvSpPr>
            <p:cNvPr id="645" name="Oval 32"/>
            <p:cNvSpPr/>
            <p:nvPr/>
          </p:nvSpPr>
          <p:spPr>
            <a:xfrm>
              <a:off x="1182600" y="1353960"/>
              <a:ext cx="6954840" cy="4629240"/>
            </a:xfrm>
            <a:prstGeom prst="ellipse">
              <a:avLst/>
            </a:prstGeom>
            <a:noFill/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Oval 33"/>
            <p:cNvSpPr/>
            <p:nvPr/>
          </p:nvSpPr>
          <p:spPr>
            <a:xfrm>
              <a:off x="2180880" y="2017440"/>
              <a:ext cx="4978440" cy="3314880"/>
            </a:xfrm>
            <a:prstGeom prst="ellipse">
              <a:avLst/>
            </a:prstGeom>
            <a:noFill/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Richtungspfeil 34"/>
            <p:cNvSpPr/>
            <p:nvPr/>
          </p:nvSpPr>
          <p:spPr>
            <a:xfrm>
              <a:off x="2253960" y="2079360"/>
              <a:ext cx="1288800" cy="65880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1" y="0"/>
                  </a:lnTo>
                  <a:lnTo>
                    <a:pt x="21600" y="10800"/>
                  </a:lnTo>
                  <a:lnTo>
                    <a:pt x="1733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Richtungspfeil 35"/>
            <p:cNvSpPr/>
            <p:nvPr/>
          </p:nvSpPr>
          <p:spPr>
            <a:xfrm>
              <a:off x="1609560" y="3427200"/>
              <a:ext cx="1288800" cy="65880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1" y="0"/>
                  </a:lnTo>
                  <a:lnTo>
                    <a:pt x="21600" y="10800"/>
                  </a:lnTo>
                  <a:lnTo>
                    <a:pt x="1733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Dobavitelj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Richtungspfeil 36"/>
            <p:cNvSpPr/>
            <p:nvPr/>
          </p:nvSpPr>
          <p:spPr>
            <a:xfrm>
              <a:off x="2392200" y="4494240"/>
              <a:ext cx="1288800" cy="66024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660240"/>
                <a:gd name="textAreaBottom" fmla="*/ 660240 h 66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21" y="0"/>
                  </a:lnTo>
                  <a:lnTo>
                    <a:pt x="21600" y="10800"/>
                  </a:lnTo>
                  <a:lnTo>
                    <a:pt x="1732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Oblast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Richtungspfeil 37"/>
            <p:cNvSpPr/>
            <p:nvPr/>
          </p:nvSpPr>
          <p:spPr>
            <a:xfrm>
              <a:off x="4120920" y="5002200"/>
              <a:ext cx="1290600" cy="6588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7" y="0"/>
                  </a:lnTo>
                  <a:lnTo>
                    <a:pt x="21600" y="10800"/>
                  </a:lnTo>
                  <a:lnTo>
                    <a:pt x="1733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Projektna ekip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Richtungspfeil 38"/>
            <p:cNvSpPr/>
            <p:nvPr/>
          </p:nvSpPr>
          <p:spPr>
            <a:xfrm>
              <a:off x="5962680" y="4494240"/>
              <a:ext cx="1288800" cy="66024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660240"/>
                <a:gd name="textAreaBottom" fmla="*/ 660240 h 66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21" y="0"/>
                  </a:lnTo>
                  <a:lnTo>
                    <a:pt x="21600" y="10800"/>
                  </a:lnTo>
                  <a:lnTo>
                    <a:pt x="1732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Šola</a:t>
              </a:r>
              <a:r>
                <a:rPr b="0" lang="sl-SI" sz="18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,</a:t>
              </a:r>
              <a:r>
                <a:rPr b="0" lang="pt-PT" sz="18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 starš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Richtungspfeil 39"/>
            <p:cNvSpPr/>
            <p:nvPr/>
          </p:nvSpPr>
          <p:spPr>
            <a:xfrm>
              <a:off x="5869080" y="2079360"/>
              <a:ext cx="1290600" cy="6588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7" y="0"/>
                  </a:lnTo>
                  <a:lnTo>
                    <a:pt x="21600" y="10800"/>
                  </a:lnTo>
                  <a:lnTo>
                    <a:pt x="1733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Izvajale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Richtungspfeil 40"/>
            <p:cNvSpPr/>
            <p:nvPr/>
          </p:nvSpPr>
          <p:spPr>
            <a:xfrm>
              <a:off x="6513480" y="3344760"/>
              <a:ext cx="1290600" cy="66024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660240"/>
                <a:gd name="textAreaBottom" fmla="*/ 660240 h 66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26" y="0"/>
                  </a:lnTo>
                  <a:lnTo>
                    <a:pt x="21600" y="10800"/>
                  </a:lnTo>
                  <a:lnTo>
                    <a:pt x="1732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84aa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Calibri"/>
                  <a:ea typeface="PoloMatheAustria1Leicht Leicht"/>
                </a:rPr>
                <a:t>Strank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4" name="Gruppierung 41"/>
            <p:cNvGrpSpPr/>
            <p:nvPr/>
          </p:nvGrpSpPr>
          <p:grpSpPr>
            <a:xfrm>
              <a:off x="3681720" y="2920320"/>
              <a:ext cx="2163240" cy="1400760"/>
              <a:chOff x="3681720" y="2920320"/>
              <a:chExt cx="2163240" cy="1400760"/>
            </a:xfrm>
          </p:grpSpPr>
          <p:sp>
            <p:nvSpPr>
              <p:cNvPr id="655" name="Richtungspfeil 42"/>
              <p:cNvSpPr/>
              <p:nvPr/>
            </p:nvSpPr>
            <p:spPr>
              <a:xfrm>
                <a:off x="3681720" y="3231360"/>
                <a:ext cx="1906200" cy="1089720"/>
              </a:xfrm>
              <a:custGeom>
                <a:avLst/>
                <a:gdLst>
                  <a:gd name="textAreaLeft" fmla="*/ 0 w 1906200"/>
                  <a:gd name="textAreaRight" fmla="*/ 1906560 w 1906200"/>
                  <a:gd name="textAreaTop" fmla="*/ 0 h 1089720"/>
                  <a:gd name="textAreaBottom" fmla="*/ 1090080 h 108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829" y="0"/>
                    </a:lnTo>
                    <a:lnTo>
                      <a:pt x="21600" y="10800"/>
                    </a:lnTo>
                    <a:lnTo>
                      <a:pt x="16829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afd173"/>
              </a:solidFill>
              <a:ln w="12600">
                <a:solidFill>
                  <a:srgbClr val="84aa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2400" spc="-1" strike="noStrike">
                    <a:solidFill>
                      <a:srgbClr val="000000"/>
                    </a:solidFill>
                    <a:latin typeface="Calibri"/>
                    <a:ea typeface="PoloMatheAustria1Krftg krftg"/>
                  </a:rPr>
                  <a:t>Projekt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Parallelogramm 43"/>
              <p:cNvSpPr/>
              <p:nvPr/>
            </p:nvSpPr>
            <p:spPr>
              <a:xfrm>
                <a:off x="3681720" y="2920320"/>
                <a:ext cx="1753920" cy="311040"/>
              </a:xfrm>
              <a:prstGeom prst="parallelogram">
                <a:avLst>
                  <a:gd name="adj" fmla="val 79910"/>
                </a:avLst>
              </a:prstGeom>
              <a:solidFill>
                <a:srgbClr val="ffffff"/>
              </a:solidFill>
              <a:ln w="12600">
                <a:solidFill>
                  <a:srgbClr val="84aa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Gerade Verbindung 44"/>
              <p:cNvSpPr/>
              <p:nvPr/>
            </p:nvSpPr>
            <p:spPr>
              <a:xfrm>
                <a:off x="5435640" y="2920320"/>
                <a:ext cx="409320" cy="538200"/>
              </a:xfrm>
              <a:prstGeom prst="line">
                <a:avLst/>
              </a:prstGeom>
              <a:ln w="12600">
                <a:solidFill>
                  <a:srgbClr val="84aa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Gerade Verbindung 45"/>
              <p:cNvSpPr/>
              <p:nvPr/>
            </p:nvSpPr>
            <p:spPr>
              <a:xfrm flipV="1">
                <a:off x="5587920" y="3458520"/>
                <a:ext cx="257040" cy="317520"/>
              </a:xfrm>
              <a:prstGeom prst="line">
                <a:avLst/>
              </a:prstGeom>
              <a:ln w="12600">
                <a:solidFill>
                  <a:srgbClr val="84aa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Imagem 7" descr="title_shadow_50.png"/>
          <p:cNvPicPr/>
          <p:nvPr/>
        </p:nvPicPr>
        <p:blipFill>
          <a:blip r:embed="rId1"/>
          <a:stretch/>
        </p:blipFill>
        <p:spPr>
          <a:xfrm>
            <a:off x="311040" y="603360"/>
            <a:ext cx="8547120" cy="476280"/>
          </a:xfrm>
          <a:prstGeom prst="rect">
            <a:avLst/>
          </a:prstGeom>
          <a:ln w="0">
            <a:noFill/>
          </a:ln>
        </p:spPr>
      </p:pic>
      <p:sp>
        <p:nvSpPr>
          <p:cNvPr id="660" name="Rectângulo 9"/>
          <p:cNvSpPr/>
          <p:nvPr/>
        </p:nvSpPr>
        <p:spPr>
          <a:xfrm>
            <a:off x="0" y="-14400"/>
            <a:ext cx="9144000" cy="104940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w Cen MT"/>
                <a:ea typeface="Times New Roman"/>
              </a:rPr>
              <a:t>Korak 3: Projektno okolje in deležn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feld 2"/>
          <p:cNvSpPr/>
          <p:nvPr/>
        </p:nvSpPr>
        <p:spPr>
          <a:xfrm>
            <a:off x="4568760" y="31608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438120" y="1362240"/>
          <a:ext cx="8288280" cy="4925880"/>
        </p:xfrm>
        <a:graphic>
          <a:graphicData uri="http://schemas.openxmlformats.org/drawingml/2006/table">
            <a:tbl>
              <a:tblPr/>
              <a:tblGrid>
                <a:gridCol w="1905120"/>
                <a:gridCol w="1998720"/>
                <a:gridCol w="1330200"/>
                <a:gridCol w="1724040"/>
                <a:gridCol w="1330200"/>
              </a:tblGrid>
              <a:tr h="45756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jektni načrt dela: ».............. 20..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ežni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i/pozitivni rezul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f622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led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622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2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ličica: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tor: 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n 1 od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Imagem 7" descr="title_shadow_50.png"/>
          <p:cNvPicPr/>
          <p:nvPr/>
        </p:nvPicPr>
        <p:blipFill>
          <a:blip r:embed="rId1"/>
          <a:stretch/>
        </p:blipFill>
        <p:spPr>
          <a:xfrm>
            <a:off x="311040" y="603360"/>
            <a:ext cx="8547120" cy="476280"/>
          </a:xfrm>
          <a:prstGeom prst="rect">
            <a:avLst/>
          </a:prstGeom>
          <a:ln w="0">
            <a:noFill/>
          </a:ln>
        </p:spPr>
      </p:pic>
      <p:sp>
        <p:nvSpPr>
          <p:cNvPr id="664" name="Rectângulo 9"/>
          <p:cNvSpPr/>
          <p:nvPr/>
        </p:nvSpPr>
        <p:spPr>
          <a:xfrm>
            <a:off x="0" y="-14400"/>
            <a:ext cx="9144000" cy="104940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w Cen MT"/>
                <a:ea typeface="Times New Roman"/>
              </a:rPr>
              <a:t>Korak 4: Logični okv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Oval 1"/>
          <p:cNvSpPr/>
          <p:nvPr/>
        </p:nvSpPr>
        <p:spPr>
          <a:xfrm>
            <a:off x="390600" y="2262240"/>
            <a:ext cx="2519280" cy="2519280"/>
          </a:xfrm>
          <a:prstGeom prst="ellipse">
            <a:avLst/>
          </a:prstGeom>
          <a:solidFill>
            <a:srgbClr val="d7e4bd"/>
          </a:solidFill>
          <a:ln w="12600">
            <a:solidFill>
              <a:srgbClr val="4e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4f6228"/>
                </a:solidFill>
                <a:latin typeface="Calibri"/>
                <a:ea typeface="ÇlÇr ñæí©"/>
              </a:rPr>
              <a:t>Cil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ÇlÇr ñæí©"/>
              </a:rPr>
              <a:t>sploš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ÇlÇr ñæí©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ÇlÇr ñæí©"/>
              </a:rPr>
              <a:t>specifič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hteck 2"/>
          <p:cNvSpPr/>
          <p:nvPr/>
        </p:nvSpPr>
        <p:spPr>
          <a:xfrm>
            <a:off x="3836880" y="2511360"/>
            <a:ext cx="1581120" cy="20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4e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4f6228"/>
                </a:solidFill>
                <a:latin typeface="Calibri"/>
                <a:ea typeface="ÇlÇr ñæí©"/>
              </a:rPr>
              <a:t>Ukre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Oval 1"/>
          <p:cNvSpPr/>
          <p:nvPr/>
        </p:nvSpPr>
        <p:spPr>
          <a:xfrm>
            <a:off x="6291360" y="2273400"/>
            <a:ext cx="2519280" cy="2519280"/>
          </a:xfrm>
          <a:prstGeom prst="ellipse">
            <a:avLst/>
          </a:prstGeom>
          <a:solidFill>
            <a:srgbClr val="d7e4bd"/>
          </a:solidFill>
          <a:ln w="12600">
            <a:solidFill>
              <a:srgbClr val="4e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4f6228"/>
                </a:solidFill>
                <a:latin typeface="Calibri"/>
                <a:ea typeface="ÇlÇr ñæí©"/>
              </a:rPr>
              <a:t>Rezult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ÇlÇr ñæí©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ÇlÇr ñæí©"/>
              </a:rPr>
              <a:t>prepoznav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ÇlÇr ñæí©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ÇlÇr ñæí©"/>
              </a:rPr>
              <a:t>lahko se ga vredno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8" name="Gerade Verbindung mit Pfeil 13"/>
          <p:cNvCxnSpPr>
            <a:stCxn id="665" idx="6"/>
            <a:endCxn id="666" idx="1"/>
          </p:cNvCxnSpPr>
          <p:nvPr/>
        </p:nvCxnSpPr>
        <p:spPr>
          <a:xfrm flipV="1">
            <a:off x="2909520" y="3520440"/>
            <a:ext cx="927720" cy="1080"/>
          </a:xfrm>
          <a:prstGeom prst="straightConnector1">
            <a:avLst/>
          </a:prstGeom>
          <a:ln w="25560">
            <a:solidFill>
              <a:srgbClr val="4f6228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669" name="Gerade Verbindung mit Pfeil 15"/>
          <p:cNvCxnSpPr>
            <a:stCxn id="666" idx="3"/>
            <a:endCxn id="667" idx="2"/>
          </p:cNvCxnSpPr>
          <p:nvPr/>
        </p:nvCxnSpPr>
        <p:spPr>
          <a:xfrm>
            <a:off x="5418000" y="3520800"/>
            <a:ext cx="874080" cy="13320"/>
          </a:xfrm>
          <a:prstGeom prst="straightConnector1">
            <a:avLst/>
          </a:prstGeom>
          <a:ln w="25560">
            <a:solidFill>
              <a:srgbClr val="4f6228"/>
            </a:solidFill>
            <a:miter/>
            <a:tailEnd len="lg" type="triangle" w="lg"/>
          </a:ln>
        </p:spPr>
      </p:cxn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Imagem 7" descr="title_shadow_50.png"/>
          <p:cNvPicPr/>
          <p:nvPr/>
        </p:nvPicPr>
        <p:blipFill>
          <a:blip r:embed="rId1"/>
          <a:stretch/>
        </p:blipFill>
        <p:spPr>
          <a:xfrm>
            <a:off x="311040" y="603360"/>
            <a:ext cx="8547120" cy="476280"/>
          </a:xfrm>
          <a:prstGeom prst="rect">
            <a:avLst/>
          </a:prstGeom>
          <a:ln w="0">
            <a:noFill/>
          </a:ln>
        </p:spPr>
      </p:pic>
      <p:sp>
        <p:nvSpPr>
          <p:cNvPr id="671" name="Rectângulo 9"/>
          <p:cNvSpPr/>
          <p:nvPr/>
        </p:nvSpPr>
        <p:spPr>
          <a:xfrm>
            <a:off x="0" y="-14400"/>
            <a:ext cx="9144000" cy="104940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w Cen MT"/>
                <a:ea typeface="Times New Roman"/>
              </a:rPr>
              <a:t>Korak 5: Delovni sklo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65120" y="1343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Zabeležite si spodnje informacije za vsak posamezni delovni sklop (DS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me delovnega sklop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Številka delovnega sklopa (koda SČD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Začetek (od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Konec (do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dgovor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pis aktivnosti, ki jih boste izvaj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Morebitni predpogoji za izvedb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zidi/izdel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4T06:55:39Z</dcterms:created>
  <dc:creator>Rui Pedro</dc:creator>
  <dc:description/>
  <dc:language>en-US</dc:language>
  <cp:lastModifiedBy>Urska</cp:lastModifiedBy>
  <dcterms:modified xsi:type="dcterms:W3CDTF">2016-08-10T08:48:45Z</dcterms:modified>
  <cp:revision>268</cp:revision>
  <dc:subject/>
  <dc:title>Diapositivo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2E42C9F965202B48A7D628E6A6922ADD</vt:lpwstr>
  </property>
</Properties>
</file>